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440" y="1663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6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440" y="40284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0" y="40284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63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" y="40284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Click to edit the title text format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63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Third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our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Fif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ix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Seventh Outline Level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bs.fishc.com/thread-35584-1-1.html" TargetMode="External"/><Relationship Id="rId2" Type="http://schemas.openxmlformats.org/officeDocument/2006/relationships/hyperlink" Target="http://bbs.fishc.com/thread-35584-1-1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零基础入门学习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66560" y="17812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作者：小甲鱼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YaHei Consolas Hybrid"/>
              </a:rPr>
              <a:t>让编程改变世界</a:t>
            </a:r>
            <a:endParaRPr b="0" lang="en-US" sz="36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YaHei Consolas Hybrid"/>
              </a:rPr>
              <a:t>Change</a:t>
            </a: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 the world by program</a:t>
            </a: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0504d"/>
                </a:solidFill>
                <a:latin typeface="华文行楷"/>
              </a:rPr>
              <a:t>支持小甲鱼推出更多优秀的原创教学视频</a:t>
            </a:r>
            <a:endParaRPr b="0" lang="en-US" sz="35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9" name="内容占位符 5" descr=""/>
          <p:cNvPicPr/>
          <p:nvPr/>
        </p:nvPicPr>
        <p:blipFill>
          <a:blip r:embed="rId1"/>
          <a:stretch/>
        </p:blipFill>
        <p:spPr>
          <a:xfrm>
            <a:off x="1030320" y="1639800"/>
            <a:ext cx="729612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为什么是</a:t>
            </a: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2" name="Picture 9" descr="C:\Users\小甲鱼\Desktop\whyme.png"/>
          <p:cNvPicPr/>
          <p:nvPr/>
        </p:nvPicPr>
        <p:blipFill>
          <a:blip r:embed="rId1"/>
          <a:stretch/>
        </p:blipFill>
        <p:spPr>
          <a:xfrm>
            <a:off x="1116000" y="2421000"/>
            <a:ext cx="69850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跨平台哦亲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4" name="Picture 4" descr="C:\Users\小甲鱼\Desktop\RealStudio_CrossPlatform.PNG"/>
          <p:cNvPicPr/>
          <p:nvPr/>
        </p:nvPicPr>
        <p:blipFill>
          <a:blip r:embed="rId1"/>
          <a:stretch/>
        </p:blipFill>
        <p:spPr>
          <a:xfrm>
            <a:off x="2340000" y="1774800"/>
            <a:ext cx="44449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K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其他语言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YaHei Consolas Hybrid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YaHei Consolas Hybrid"/>
              </a:rPr>
              <a:t>更多：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YaHei Consolas Hybrid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YaHei Consolas Hybrid"/>
                <a:hlinkClick r:id="rId2"/>
              </a:rPr>
              <a:t>bbs.fishc.com/thread-35584-1-1.html</a:t>
            </a:r>
            <a:endParaRPr b="0" lang="en-US" sz="2000" spc="-1" strike="noStrike">
              <a:solidFill>
                <a:srgbClr val="008000"/>
              </a:solidFill>
              <a:latin typeface="YaHei Consolas Hybrid"/>
            </a:endParaRPr>
          </a:p>
        </p:txBody>
      </p:sp>
      <p:pic>
        <p:nvPicPr>
          <p:cNvPr id="47" name="Picture 2" descr="C:\Users\小甲鱼\Desktop\garena-runescape-pk-honor-gift-by-gfx-zeus-on-deviantart-images-323209.jpg"/>
          <p:cNvPicPr/>
          <p:nvPr/>
        </p:nvPicPr>
        <p:blipFill>
          <a:blip r:embed="rId3"/>
          <a:stretch/>
        </p:blipFill>
        <p:spPr>
          <a:xfrm>
            <a:off x="2124000" y="1773360"/>
            <a:ext cx="496908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华文行楷"/>
              </a:rPr>
              <a:t>Python</a:t>
            </a: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的应用范围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609480" y="1663560"/>
            <a:ext cx="82296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大家可以学到什么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1"/>
          <a:stretch/>
        </p:blipFill>
        <p:spPr>
          <a:xfrm>
            <a:off x="2090880" y="1657440"/>
            <a:ext cx="501624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你需要什么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1474920" y="1639800"/>
            <a:ext cx="6121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你不需要什么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1116000" y="1762200"/>
            <a:ext cx="75582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华文行楷"/>
              </a:rPr>
              <a:t>学习的捷径</a:t>
            </a:r>
            <a:endParaRPr b="0" lang="en-US" sz="4000" spc="-1" strike="noStrike">
              <a:solidFill>
                <a:srgbClr val="c0504d"/>
              </a:solidFill>
              <a:latin typeface="华文行楷"/>
            </a:endParaRPr>
          </a:p>
        </p:txBody>
      </p:sp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469800" y="1762200"/>
            <a:ext cx="82296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40:59Z</dcterms:created>
  <dc:creator>小甲鱼</dc:creator>
  <dc:description/>
  <dc:language>en-US</dc:language>
  <cp:lastModifiedBy>小甲鱼</cp:lastModifiedBy>
  <cp:lastPrinted>1899-12-30T00:00:00Z</cp:lastPrinted>
  <dcterms:modified xsi:type="dcterms:W3CDTF">2013-08-08T17:55:21Z</dcterms:modified>
  <cp:revision>1992</cp:revision>
  <dc:subject/>
  <dc:title>Delphi 7中的运算符与表达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