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安装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图示 3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8425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从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IDLE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启动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IDL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是一个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 Shell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hell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意思就是“外壳”，基本上来说，就是一个通过键入文本与程序交互的途径！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看到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&gt;&gt;&gt;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这个提示符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a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的含义是告诉你，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已经准备好了，在等着你键入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Python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指令呢。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好了，大家试试在</a:t>
            </a: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IDL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里输入：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 (“I love fishc.com”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失败的尝试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那么要是你输入的是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 “I love fishc.com”    #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前妻系列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或者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f(“I love fishc.com”); #</a:t>
            </a:r>
            <a:r>
              <a:rPr b="0" lang="zh-CN" sz="2600" spc="-1" strike="noStrike">
                <a:solidFill>
                  <a:srgbClr val="7030a0"/>
                </a:solidFill>
                <a:latin typeface="YaHei Consolas Hybrid"/>
              </a:rPr>
              <a:t>小三系列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尝试点新的东西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我们尝试点儿新的东西，我们输入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(5+3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或者直接输入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5+3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不妨在试试计算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1234567890987654321*987654321012345678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还有呢，大家试试输入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(“well water”+“river”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为什么会这样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先试试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(“I love fishc.com”* 8 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和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(“I love fishc.com\n”* 8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既然乘法可以，那我们不妨试试加法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45720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YaHei Consolas Hybrid"/>
              </a:rPr>
              <a:t>&gt;&gt;&gt;print(“I love fishc.com”+ 8 )</a:t>
            </a:r>
            <a:endParaRPr b="0" lang="en-US" sz="26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李佳宇</cp:lastModifiedBy>
  <cp:lastPrinted>1899-12-30T00:00:00Z</cp:lastPrinted>
  <dcterms:modified xsi:type="dcterms:W3CDTF">2015-05-02T09:56:27Z</dcterms:modified>
  <cp:revision>2006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