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用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设计第一个游戏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2" name="Picture 4" descr="C:\Users\小甲鱼\Desktop\2011829183020.jpg"/>
          <p:cNvPicPr/>
          <p:nvPr/>
        </p:nvPicPr>
        <p:blipFill>
          <a:blip r:embed="rId1"/>
          <a:stretch/>
        </p:blipFill>
        <p:spPr>
          <a:xfrm>
            <a:off x="1692360" y="1778040"/>
            <a:ext cx="568800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小甲鱼</cp:lastModifiedBy>
  <cp:lastPrinted>1899-12-30T00:00:00Z</cp:lastPrinted>
  <dcterms:modified xsi:type="dcterms:W3CDTF">2013-08-18T11:32:15Z</dcterms:modified>
  <cp:revision>2006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