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插曲之变量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6560" y="1663200"/>
            <a:ext cx="8229600" cy="4527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小甲鱼\Desktop\4499633_194511082000_2.jpg"/>
          <p:cNvPicPr/>
          <p:nvPr/>
        </p:nvPicPr>
        <p:blipFill>
          <a:blip r:embed="rId2"/>
          <a:stretch/>
        </p:blipFill>
        <p:spPr>
          <a:xfrm>
            <a:off x="2556000" y="1784520"/>
            <a:ext cx="4103640" cy="4195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小甲鱼\Desktop\4499633_194511082000_2.jpg"/>
          <p:cNvPicPr/>
          <p:nvPr/>
        </p:nvPicPr>
        <p:blipFill>
          <a:blip r:embed="rId3"/>
          <a:stretch/>
        </p:blipFill>
        <p:spPr>
          <a:xfrm>
            <a:off x="2546280" y="1784520"/>
            <a:ext cx="4321080" cy="41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插曲之变量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6560" y="1709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变量名就像我们现实社会的名字，把一个值赋值给一个名字时，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a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会存储在内存中，称之为变量（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variabl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），在大多数语言中，都把这种行为称为“给变量赋值”或“把值存储在变量中”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不过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Python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与大多数其他计算机语言的做法稍有不同，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a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并不是把值存储在变量中，而更像是把名字贴在值的上边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所以有些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Python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程序员会说“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Python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”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没有“变量”，只有“名字”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需要注意的地方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65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在使用变量之前，需要对其先赋值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变量名可以包括字母、数字、下划线，但变量名不能以数字开头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字母可以是大写或小写，但大小写是不同的。也就是说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shc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和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shC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对于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Python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来说是完全不同的两个名字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等号（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=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）是赋值的意思，左边是名字，右边是值，不可写反咯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需要注意的地方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变量的命名理论可以取任何合法的名字，但作为一个优秀的程序员，请将尽量给变量取一个专业一点儿的名字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&gt;&gt;&gt;t =‘</a:t>
            </a:r>
            <a:r>
              <a:rPr b="0" lang="zh-CN" sz="2600" spc="-1" strike="noStrike">
                <a:solidFill>
                  <a:srgbClr val="7030a0"/>
                </a:solidFill>
                <a:latin typeface="YaHei Consolas Hybrid"/>
              </a:rPr>
              <a:t>小甲鱼</a:t>
            </a: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’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&gt;&gt;&gt;xxoo =‘</a:t>
            </a:r>
            <a:r>
              <a:rPr b="0" lang="zh-CN" sz="2600" spc="-1" strike="noStrike">
                <a:solidFill>
                  <a:srgbClr val="7030a0"/>
                </a:solidFill>
                <a:latin typeface="YaHei Consolas Hybrid"/>
              </a:rPr>
              <a:t>小甲鱼</a:t>
            </a: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’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&gt;&gt;&gt;teacher =‘</a:t>
            </a:r>
            <a:r>
              <a:rPr b="0" lang="zh-CN" sz="2600" spc="-1" strike="noStrike">
                <a:solidFill>
                  <a:srgbClr val="7030a0"/>
                </a:solidFill>
                <a:latin typeface="YaHei Consolas Hybrid"/>
              </a:rPr>
              <a:t>小甲鱼</a:t>
            </a: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’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插曲之字符串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到目前为止，我们所认知的字符串就是引号内的一切东西，我们也把字符串叫做文本，文本和数字是截然不同的，咱看例子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&gt;&gt;&gt;</a:t>
            </a:r>
            <a:r>
              <a:rPr b="0" lang="en-US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+8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&gt;&gt;&gt;</a:t>
            </a:r>
            <a:r>
              <a:rPr b="0" lang="en-US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’5’+’8’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lnSpc>
                <a:spcPct val="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要告诉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Python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你在创建一个字符串，就要在字符两边加上引号，可以是单引号或者双引号，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Python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女士表示不挑剔。但必须成对，你不能一边单引号，另一边却花心的用上双引号结尾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插曲之字符串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6560" y="178128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如果字符串中需要出现单引号或双引号怎么办？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000"/>
                </a:solidFill>
                <a:latin typeface="YaHei Consolas Hybrid"/>
              </a:rPr>
              <a:t>例如我想打印字符串：</a:t>
            </a:r>
            <a:r>
              <a:rPr b="0" lang="en-US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et’s go!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有两种方法，第一种比较常用，就是使用我们的转义符号（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\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）对字符串中的引号进行转义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&gt;&gt;&gt;</a:t>
            </a:r>
            <a:r>
              <a:rPr b="0" lang="zh-CN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‘</a:t>
            </a:r>
            <a:r>
              <a:rPr b="0" lang="en-US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et\’s go!</a:t>
            </a:r>
            <a:r>
              <a:rPr b="0" lang="zh-CN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’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还有一种方法小甲鱼卖个关子，让大家先思考一下，在课后习题里边会有举例讲解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原始字符串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好像反斜杠是一个好东西，但不妨试试打印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&gt;&gt;&gt;str = ‘C:\now’</a:t>
            </a:r>
            <a:endParaRPr b="0" lang="en-US" sz="24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我们可以用反斜杠对自身进行转义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&gt;&gt;&gt;str = ‘C:\\now’</a:t>
            </a:r>
            <a:endParaRPr b="0" lang="en-US" sz="24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但如果对于一个字符串中有很多个反斜杠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&gt;&gt;&gt;str = ‘C:\Program Files\Intel\WiFi\Help’</a:t>
            </a:r>
            <a:endParaRPr b="0" lang="en-US" sz="24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原始字符串的使用非常简单，只需要在字符串前边加一个英文字母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</a:t>
            </a:r>
            <a:r>
              <a:rPr b="0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即可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&gt;&gt;&gt;str = r‘C:\now’</a:t>
            </a:r>
            <a:endParaRPr b="0" lang="en-US" sz="24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长字符串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如果希望得到一个跨越多行的字符串，例如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7030a0"/>
                </a:solidFill>
                <a:latin typeface="YaHei Consolas Hybrid"/>
              </a:rPr>
              <a:t>我爱鱼</a:t>
            </a: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C</a:t>
            </a:r>
            <a:r>
              <a:rPr b="0" lang="zh-CN" sz="2600" spc="-1" strike="noStrike">
                <a:solidFill>
                  <a:srgbClr val="7030a0"/>
                </a:solidFill>
                <a:latin typeface="YaHei Consolas Hybrid"/>
              </a:rPr>
              <a:t>，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7030a0"/>
                </a:solidFill>
                <a:latin typeface="YaHei Consolas Hybrid"/>
              </a:rPr>
              <a:t>正如我爱小甲鱼，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7030a0"/>
                </a:solidFill>
                <a:latin typeface="YaHei Consolas Hybrid"/>
              </a:rPr>
              <a:t>他那呱唧呱唧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7030a0"/>
                </a:solidFill>
                <a:latin typeface="YaHei Consolas Hybrid"/>
              </a:rPr>
              <a:t>呱唧呱唧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7030a0"/>
                </a:solidFill>
                <a:latin typeface="YaHei Consolas Hybrid"/>
              </a:rPr>
              <a:t>呱唧呱唧的声音，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7030a0"/>
                </a:solidFill>
                <a:latin typeface="YaHei Consolas Hybrid"/>
              </a:rPr>
              <a:t>总缠绕于我的脑海，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7030a0"/>
                </a:solidFill>
                <a:latin typeface="YaHei Consolas Hybrid"/>
              </a:rPr>
              <a:t>久久不肯散去</a:t>
            </a: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……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这我们就需要使用到三重引号字符串！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小甲鱼</cp:lastModifiedBy>
  <cp:lastPrinted>1899-12-30T00:00:00Z</cp:lastPrinted>
  <dcterms:modified xsi:type="dcterms:W3CDTF">2013-08-20T18:19:50Z</dcterms:modified>
  <cp:revision>2025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