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引入外援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第三个改进要求：每次运行程序产生的答案是随机的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需要引入外援：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random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模块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这个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random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模块里边有一个函数叫做：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randint()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会返回一个随机的整数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可以利用这个函数来改造我们的游戏！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改进我们的小游戏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很多鱼油对改善这个游戏提出了建议，小甲鱼做了一下总结，大概有以下几个方面需要改进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猜错的时候程序应该给点提示，例如告诉用户输入的值是大了还是小了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每运行一次程序只能猜一次，应该提供多次机会给用户猜测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每次运行程序，答案可以是随机的。因为程序答案固定，容易导致答案外泄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条件分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第一个改进要求：猜错的时候程序提示用户当前的输入比答案大了还是小了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403280" y="2781360"/>
          <a:ext cx="6337440" cy="3095640"/>
        </p:xfrm>
        <a:graphic>
          <a:graphicData uri="http://schemas.openxmlformats.org/drawingml/2006/table">
            <a:tbl>
              <a:tblPr/>
              <a:tblGrid>
                <a:gridCol w="1422360"/>
                <a:gridCol w="4915080"/>
              </a:tblGrid>
              <a:tr h="44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Python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的比较操作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左边</a:t>
                      </a: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YaHei Consolas Hybrid"/>
                          <a:ea typeface="华文新魏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右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左边</a:t>
                      </a: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YaHei Consolas Hybrid"/>
                          <a:ea typeface="华文新魏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右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左边</a:t>
                      </a: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YaHei Consolas Hybrid"/>
                          <a:ea typeface="华文新魏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右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左边</a:t>
                      </a: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YaHei Consolas Hybrid"/>
                          <a:ea typeface="华文新魏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右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左边</a:t>
                      </a: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YaHei Consolas Hybrid"/>
                          <a:ea typeface="华文新魏"/>
                        </a:rPr>
                        <a:t>等于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右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左边</a:t>
                      </a: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YaHei Consolas Hybrid"/>
                          <a:ea typeface="华文新魏"/>
                        </a:rPr>
                        <a:t>不等于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YaHei Consolas Hybrid"/>
                          <a:ea typeface="华文新魏"/>
                        </a:rPr>
                        <a:t>右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条件分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604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条件分支语法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1619280" y="2276640"/>
            <a:ext cx="1584360" cy="504720"/>
          </a:xfrm>
          <a:prstGeom prst="rect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条件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1619280" y="4365720"/>
            <a:ext cx="1081080" cy="503280"/>
          </a:xfrm>
          <a:prstGeom prst="rect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2271600" y="2924280"/>
            <a:ext cx="4532400" cy="129672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条件为真（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）执行的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2271600" y="5013360"/>
            <a:ext cx="4532400" cy="93672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条件为假（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）执行的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代码磁贴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3340080" y="4797360"/>
            <a:ext cx="504036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print(“</a:t>
            </a:r>
            <a:r>
              <a:rPr b="0" lang="zh-CN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哇草，你是小甲鱼心里的蛔虫吗？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765000" y="3238560"/>
            <a:ext cx="387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print(“</a:t>
            </a:r>
            <a:r>
              <a:rPr b="0" lang="zh-CN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哼，猜中了也没有奖励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668600" y="2637000"/>
            <a:ext cx="79344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1143000" y="4029120"/>
            <a:ext cx="194472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if guess &gt; 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4520" y="1940040"/>
            <a:ext cx="316836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print(“</a:t>
            </a:r>
            <a:r>
              <a:rPr b="0" lang="zh-CN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哥，大了大了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~~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5203800" y="3213000"/>
            <a:ext cx="784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4643280" y="2548080"/>
            <a:ext cx="353376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print(“</a:t>
            </a:r>
            <a:r>
              <a:rPr b="0" lang="zh-CN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嘿，小了！小了！！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3340080" y="3849840"/>
            <a:ext cx="360036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print(“</a:t>
            </a:r>
            <a:r>
              <a:rPr b="0" lang="zh-CN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游戏结束，不玩啦</a:t>
            </a: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~~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1424160" y="5373720"/>
            <a:ext cx="194436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if guess == 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while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循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第二个改进要求：程序应该提供多次机会给用户猜测，专业点来讲就是程序需要重复运行某些代码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请用红笔圈出你认为需要进行循环的代码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while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循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2200" y="1663200"/>
            <a:ext cx="77770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print(‘----------- 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我爱鱼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C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工作室 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----------’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temp = (‘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不妨猜一下小甲鱼现在心里想的是哪个数字：’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guess = int(temp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if guess == 8: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print(“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哇草，你是小甲鱼心里的蛔虫吗？”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print(“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哼，猜中了也没有奖励”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else: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if guess &gt; 8: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print(“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哥，大了大了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~~”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else: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	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print(“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嘿，小了！小了！！”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print(“</a:t>
            </a:r>
            <a:r>
              <a:rPr b="0" lang="zh-CN" sz="2000" spc="-1" strike="noStrike">
                <a:solidFill>
                  <a:srgbClr val="7030a0"/>
                </a:solidFill>
                <a:latin typeface="YaHei Consolas Hybrid"/>
              </a:rPr>
              <a:t>游戏结束，不玩啦</a:t>
            </a:r>
            <a:r>
              <a:rPr b="0" lang="en-US" sz="2000" spc="-1" strike="noStrike">
                <a:solidFill>
                  <a:srgbClr val="7030a0"/>
                </a:solidFill>
                <a:latin typeface="YaHei Consolas Hybrid"/>
              </a:rPr>
              <a:t>~~”)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while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循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Whil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循环语法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1619280" y="2276640"/>
            <a:ext cx="2160720" cy="504720"/>
          </a:xfrm>
          <a:prstGeom prst="rect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while </a:t>
            </a: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条件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2271600" y="2924280"/>
            <a:ext cx="4532400" cy="295272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条件为真（</a:t>
            </a:r>
            <a:r>
              <a:rPr b="0" lang="en-US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YaHei Consolas Hybrid"/>
                <a:ea typeface="华文新魏"/>
              </a:rPr>
              <a:t>）执行的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while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循环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这里我们给大家的提示是：使用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and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逻辑操作符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的</a:t>
            </a:r>
            <a:r>
              <a:rPr b="0" lang="en-US" sz="2600" spc="-1" strike="noStrike">
                <a:solidFill>
                  <a:srgbClr val="008000"/>
                </a:solidFill>
                <a:latin typeface="YaHei Consolas Hybrid"/>
              </a:rPr>
              <a:t>and</a:t>
            </a: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逻辑操作符可以将任意表达式连接在一起，并得到一个布尔类型的值。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8-24T21:25:04Z</dcterms:modified>
  <cp:revision>2055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