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" y="40284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360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900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144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6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900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144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69192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Click to edit the title text format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Click to edit the outline text format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econd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2" marL="1143000" indent="-22860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Third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our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if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ix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even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零基础入门学习</a:t>
            </a: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Python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466560" y="178128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作者：小甲鱼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YaHei Consolas Hybrid"/>
              </a:rPr>
              <a:t>让编程改变世界</a:t>
            </a:r>
            <a:endParaRPr b="0" lang="en-US" sz="36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Change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 the world by program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闲聊之</a:t>
            </a: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Python</a:t>
            </a: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的数据类型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pic>
        <p:nvPicPr>
          <p:cNvPr id="42" name="Picture 4" descr="C:\Users\小甲鱼\Desktop\aec379310a55b319c849609742a98226cefc179b.jpg"/>
          <p:cNvPicPr/>
          <p:nvPr/>
        </p:nvPicPr>
        <p:blipFill>
          <a:blip r:embed="rId1"/>
          <a:stretch/>
        </p:blipFill>
        <p:spPr>
          <a:xfrm>
            <a:off x="1187280" y="1773360"/>
            <a:ext cx="6877080" cy="4176720"/>
          </a:xfrm>
          <a:prstGeom prst="rect">
            <a:avLst/>
          </a:prstGeom>
          <a:ln w="0">
            <a:noFill/>
          </a:ln>
        </p:spPr>
      </p:pic>
      <p:sp>
        <p:nvSpPr>
          <p:cNvPr id="43" name="云形标注 1"/>
          <p:cNvSpPr/>
          <p:nvPr/>
        </p:nvSpPr>
        <p:spPr>
          <a:xfrm>
            <a:off x="4427640" y="1976400"/>
            <a:ext cx="3576600" cy="719280"/>
          </a:xfrm>
          <a:prstGeom prst="cloudCallout">
            <a:avLst>
              <a:gd name="adj1" fmla="val -20851"/>
              <a:gd name="adj2" fmla="val 68101"/>
            </a:avLst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9360">
            <a:solidFill>
              <a:srgbClr val="adbcd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我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TM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是有数据类型的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形标注 3"/>
          <p:cNvSpPr/>
          <p:nvPr/>
        </p:nvSpPr>
        <p:spPr>
          <a:xfrm>
            <a:off x="5364000" y="1922400"/>
            <a:ext cx="2548080" cy="792360"/>
          </a:xfrm>
          <a:prstGeom prst="wedgeEllipseCallout">
            <a:avLst>
              <a:gd name="adj1" fmla="val -23384"/>
              <a:gd name="adj2" fmla="val 82875"/>
            </a:avLst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9360">
            <a:solidFill>
              <a:srgbClr val="adbcd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YaHei Consolas Hybrid"/>
                <a:ea typeface="华文新魏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YaHei Consolas Hybrid"/>
                <a:ea typeface="华文新魏"/>
              </a:rPr>
              <a:t>520’VS 5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Python</a:t>
            </a: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的一些数值类型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pic>
        <p:nvPicPr>
          <p:cNvPr id="46" name="内容占位符 3" descr=""/>
          <p:cNvPicPr/>
          <p:nvPr/>
        </p:nvPicPr>
        <p:blipFill>
          <a:blip r:embed="rId1"/>
          <a:stretch/>
        </p:blipFill>
        <p:spPr>
          <a:xfrm>
            <a:off x="469800" y="1725480"/>
            <a:ext cx="822960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868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类型转换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pic>
        <p:nvPicPr>
          <p:cNvPr id="48" name="内容占位符 5" descr=""/>
          <p:cNvPicPr/>
          <p:nvPr/>
        </p:nvPicPr>
        <p:blipFill>
          <a:blip r:embed="rId1"/>
          <a:stretch/>
        </p:blipFill>
        <p:spPr>
          <a:xfrm>
            <a:off x="469800" y="1554120"/>
            <a:ext cx="8229600" cy="4529160"/>
          </a:xfrm>
          <a:prstGeom prst="rect">
            <a:avLst/>
          </a:prstGeom>
          <a:ln w="0">
            <a:noFill/>
          </a:ln>
        </p:spPr>
      </p:pic>
      <p:sp>
        <p:nvSpPr>
          <p:cNvPr id="49" name="TextBox 6"/>
          <p:cNvSpPr/>
          <p:nvPr/>
        </p:nvSpPr>
        <p:spPr>
          <a:xfrm>
            <a:off x="4718520" y="285264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YaHei Consolas Hybrid"/>
                <a:ea typeface="时尚中黑简体"/>
              </a:rPr>
              <a:t>in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5687280" y="44067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YaHei Consolas Hybrid"/>
                <a:ea typeface="时尚中黑简体"/>
              </a:rPr>
              <a:t>floa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2755800" y="4406760"/>
            <a:ext cx="7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YaHei Consolas Hybrid"/>
                <a:ea typeface="时尚中黑简体"/>
              </a:rPr>
              <a:t>str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获得关于类型的信息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pic>
        <p:nvPicPr>
          <p:cNvPr id="53" name="内容占位符 3" descr=""/>
          <p:cNvPicPr/>
          <p:nvPr/>
        </p:nvPicPr>
        <p:blipFill>
          <a:blip r:embed="rId1"/>
          <a:stretch/>
        </p:blipFill>
        <p:spPr>
          <a:xfrm>
            <a:off x="743040" y="1706400"/>
            <a:ext cx="765792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9T21:40:59Z</dcterms:created>
  <dc:creator>小甲鱼</dc:creator>
  <dc:description/>
  <dc:language>en-US</dc:language>
  <cp:lastModifiedBy>小甲鱼</cp:lastModifiedBy>
  <cp:lastPrinted>1899-12-30T00:00:00Z</cp:lastPrinted>
  <dcterms:modified xsi:type="dcterms:W3CDTF">2013-09-01T17:49:16Z</dcterms:modified>
  <cp:revision>2064</cp:revision>
  <dc:subject/>
  <dc:title>Delphi 7中的运算符与表达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