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44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6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44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Click to edit the title text format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hir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ur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f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ix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ven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零基础入门学习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66560" y="17812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作者：小甲鱼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YaHei Consolas Hybrid"/>
              </a:rPr>
              <a:t>让编程改变世界</a:t>
            </a:r>
            <a:endParaRPr b="0" lang="en-US" sz="3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hang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 the world by program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YaHei Consolas Hybrid"/>
              </a:rPr>
              <a:t>while</a:t>
            </a:r>
            <a:r>
              <a:rPr b="0" lang="zh-CN" sz="4000" spc="-1" strike="noStrike">
                <a:solidFill>
                  <a:srgbClr val="c0504d"/>
                </a:solidFill>
                <a:latin typeface="YaHei Consolas Hybrid"/>
              </a:rPr>
              <a:t>循环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640" y="1844280"/>
            <a:ext cx="6408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YaHei Consolas Hybrid"/>
              </a:rPr>
              <a:t>while </a:t>
            </a:r>
            <a:r>
              <a:rPr b="0" lang="zh-CN" sz="2800" spc="-1" strike="noStrike">
                <a:solidFill>
                  <a:srgbClr val="0070c0"/>
                </a:solidFill>
                <a:latin typeface="YaHei Consolas Hybrid"/>
              </a:rPr>
              <a:t>条件：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YaHei Consolas Hybrid"/>
              </a:rPr>
              <a:t>循环体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YaHei Consolas Hybrid"/>
              </a:rPr>
              <a:t>for</a:t>
            </a:r>
            <a:r>
              <a:rPr b="0" lang="zh-CN" sz="4000" spc="-1" strike="noStrike">
                <a:solidFill>
                  <a:srgbClr val="c0504d"/>
                </a:solidFill>
                <a:latin typeface="YaHei Consolas Hybrid"/>
              </a:rPr>
              <a:t>循环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6560" y="1925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虽然说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Python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是由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语言编写而来的，但是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a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的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r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循环跟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语言的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r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循环不太一样，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Python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的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r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循环显得更为智能和强大！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语法：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YaHei Consolas Hybrid"/>
              </a:rPr>
              <a:t>for </a:t>
            </a:r>
            <a:r>
              <a:rPr b="0" lang="zh-CN" sz="2600" spc="-1" strike="noStrike">
                <a:solidFill>
                  <a:srgbClr val="0070c0"/>
                </a:solidFill>
                <a:latin typeface="YaHei Consolas Hybrid"/>
              </a:rPr>
              <a:t>目标 </a:t>
            </a:r>
            <a:r>
              <a:rPr b="0" lang="en-US" sz="2600" spc="-1" strike="noStrike">
                <a:solidFill>
                  <a:srgbClr val="0070c0"/>
                </a:solidFill>
                <a:latin typeface="YaHei Consolas Hybrid"/>
              </a:rPr>
              <a:t>in </a:t>
            </a:r>
            <a:r>
              <a:rPr b="0" lang="zh-CN" sz="2600" spc="-1" strike="noStrike">
                <a:solidFill>
                  <a:srgbClr val="0070c0"/>
                </a:solidFill>
                <a:latin typeface="YaHei Consolas Hybrid"/>
              </a:rPr>
              <a:t>表达式：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YaHei Consolas Hybrid"/>
              </a:rPr>
              <a:t>循环体</a:t>
            </a:r>
            <a:endParaRPr b="0" lang="en-US" sz="24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YaHei Consolas Hybrid"/>
              </a:rPr>
              <a:t>range()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语法：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range( [strat,] stop[, step=1] )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这个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BIF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有三个参数，其中用中括号括起来的两个表示这两个参数是可选的。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step=1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表示第三个参数的值默认值是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1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。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range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这个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BIF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的作用是生成一个从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start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参数的值开始到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stop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参数的值结束的数字序列。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两个关键的语句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8" name="内容占位符 3" descr=""/>
          <p:cNvPicPr/>
          <p:nvPr/>
        </p:nvPicPr>
        <p:blipFill>
          <a:blip r:embed="rId1"/>
          <a:stretch/>
        </p:blipFill>
        <p:spPr>
          <a:xfrm>
            <a:off x="444600" y="158436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1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40:59Z</dcterms:created>
  <dc:creator>小甲鱼</dc:creator>
  <dc:description/>
  <dc:language>en-US</dc:language>
  <cp:lastModifiedBy>小甲鱼</cp:lastModifiedBy>
  <cp:lastPrinted>1899-12-30T00:00:00Z</cp:lastPrinted>
  <dcterms:modified xsi:type="dcterms:W3CDTF">2013-09-23T18:43:25Z</dcterms:modified>
  <cp:revision>2104</cp:revision>
  <dc:subject/>
  <dc:title>Delphi 7中的运算符与表达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