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列表</a:t>
            </a:r>
            <a:r>
              <a:rPr b="0" lang="zh-CN" sz="40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一个打了激素的数组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Picture 2" descr="C:\Users\小甲鱼\Desktop\package.png"/>
          <p:cNvPicPr/>
          <p:nvPr/>
        </p:nvPicPr>
        <p:blipFill>
          <a:blip r:embed="rId1"/>
          <a:stretch/>
        </p:blipFill>
        <p:spPr>
          <a:xfrm>
            <a:off x="1042920" y="2327400"/>
            <a:ext cx="3689280" cy="3457440"/>
          </a:xfrm>
          <a:prstGeom prst="rect">
            <a:avLst/>
          </a:prstGeom>
          <a:ln w="0">
            <a:noFill/>
          </a:ln>
        </p:spPr>
      </p:pic>
      <p:sp>
        <p:nvSpPr>
          <p:cNvPr id="43" name="圆角矩形 3"/>
          <p:cNvSpPr/>
          <p:nvPr/>
        </p:nvSpPr>
        <p:spPr>
          <a:xfrm>
            <a:off x="5219640" y="2133720"/>
            <a:ext cx="165600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YaHei Consolas Hybrid"/>
                <a:ea typeface="华文新魏"/>
              </a:rPr>
              <a:t>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5"/>
          <p:cNvSpPr/>
          <p:nvPr/>
        </p:nvSpPr>
        <p:spPr>
          <a:xfrm>
            <a:off x="5219640" y="2997360"/>
            <a:ext cx="165600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YaHei Consolas Hybrid"/>
                <a:ea typeface="华文新魏"/>
              </a:rPr>
              <a:t>浮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6"/>
          <p:cNvSpPr/>
          <p:nvPr/>
        </p:nvSpPr>
        <p:spPr>
          <a:xfrm>
            <a:off x="5219640" y="3860640"/>
            <a:ext cx="1656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8da7"/>
              </a:gs>
              <a:gs pos="100000">
                <a:srgbClr val="a6badc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YaHei Consolas Hybrid"/>
                <a:ea typeface="华文新魏"/>
              </a:rPr>
              <a:t>字符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7"/>
          <p:cNvSpPr/>
          <p:nvPr/>
        </p:nvSpPr>
        <p:spPr>
          <a:xfrm>
            <a:off x="5219640" y="4797360"/>
            <a:ext cx="165600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YaHei Consolas Hybrid"/>
                <a:ea typeface="华文新魏"/>
              </a:rPr>
              <a:t>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创建列表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创建一个普通列表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创建一个混合列表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创建一个空列表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向列表添加元素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0" name="椭圆 3"/>
          <p:cNvSpPr/>
          <p:nvPr/>
        </p:nvSpPr>
        <p:spPr>
          <a:xfrm>
            <a:off x="900000" y="1989000"/>
            <a:ext cx="2113200" cy="2016360"/>
          </a:xfrm>
          <a:prstGeom prst="ellips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YaHei Consolas Hybrid"/>
                <a:ea typeface="华文新魏"/>
              </a:rPr>
              <a:t>appe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4"/>
          <p:cNvSpPr/>
          <p:nvPr/>
        </p:nvSpPr>
        <p:spPr>
          <a:xfrm>
            <a:off x="3276720" y="3603600"/>
            <a:ext cx="2112840" cy="2016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YaHei Consolas Hybrid"/>
                <a:ea typeface="华文新魏"/>
              </a:rPr>
              <a:t>exte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5"/>
          <p:cNvSpPr/>
          <p:nvPr/>
        </p:nvSpPr>
        <p:spPr>
          <a:xfrm>
            <a:off x="6012000" y="2612880"/>
            <a:ext cx="2112840" cy="2016360"/>
          </a:xfrm>
          <a:prstGeom prst="ellips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YaHei Consolas Hybrid"/>
                <a:ea typeface="华文新魏"/>
              </a:rPr>
              <a:t>inser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09-27T18:21:23Z</dcterms:modified>
  <cp:revision>2108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