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从列表中获取元素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跟数组一样，我们可以通过元素的索引值（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index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）从列表获取单个元素，注意，列表索引值是从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0 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开始的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从列表删除元素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椭圆 3"/>
          <p:cNvSpPr/>
          <p:nvPr/>
        </p:nvSpPr>
        <p:spPr>
          <a:xfrm>
            <a:off x="900000" y="1989000"/>
            <a:ext cx="2113200" cy="2016360"/>
          </a:xfrm>
          <a:prstGeom prst="ellips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re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"/>
          <p:cNvSpPr/>
          <p:nvPr/>
        </p:nvSpPr>
        <p:spPr>
          <a:xfrm>
            <a:off x="3276720" y="3603600"/>
            <a:ext cx="2112840" cy="2016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YaHei Consolas Hybrid"/>
                <a:ea typeface="华文新魏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6012000" y="2612880"/>
            <a:ext cx="2112840" cy="201636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YaHei Consolas Hybrid"/>
                <a:ea typeface="华文新魏"/>
              </a:rPr>
              <a:t>p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列表分片（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Slic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）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利用索引值，每次我们可以从列表获取一个元素，但是我们总是贪心的，如果一次性需要获取多个元素，有没有办法实现呢？利用列表分片，我们可以简单的实现这个要求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76360" y="2997360"/>
          <a:ext cx="5759640" cy="1112760"/>
        </p:xfrm>
        <a:graphic>
          <a:graphicData uri="http://schemas.openxmlformats.org/drawingml/2006/table">
            <a:tbl>
              <a:tblPr/>
              <a:tblGrid>
                <a:gridCol w="1206360"/>
                <a:gridCol w="758880"/>
                <a:gridCol w="758880"/>
                <a:gridCol w="758880"/>
                <a:gridCol w="758880"/>
                <a:gridCol w="758880"/>
                <a:gridCol w="75888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正常下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列表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YaHei Consolas Hybrid"/>
                          <a:ea typeface="华文新魏"/>
                        </a:rPr>
                        <a:t>负数下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aHei Consolas Hybrid"/>
                          <a:ea typeface="华文新魏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10-07T19:30:50Z</dcterms:modified>
  <cp:revision>2115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