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列表的一些常用操作符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比较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逻辑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连接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重复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成员关系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列表的小伙伴们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1663200"/>
            <a:ext cx="82296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关于分片“拷贝”概念的补充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pSp>
        <p:nvGrpSpPr>
          <p:cNvPr id="46" name="组合 3"/>
          <p:cNvGrpSpPr/>
          <p:nvPr/>
        </p:nvGrpSpPr>
        <p:grpSpPr>
          <a:xfrm>
            <a:off x="755640" y="2181240"/>
            <a:ext cx="7704000" cy="2760480"/>
            <a:chOff x="755640" y="2181240"/>
            <a:chExt cx="7704000" cy="2760480"/>
          </a:xfrm>
        </p:grpSpPr>
        <p:pic>
          <p:nvPicPr>
            <p:cNvPr id="47" name="文本框 3" descr=""/>
            <p:cNvPicPr/>
            <p:nvPr/>
          </p:nvPicPr>
          <p:blipFill>
            <a:blip r:embed="rId1"/>
            <a:stretch/>
          </p:blipFill>
          <p:spPr>
            <a:xfrm>
              <a:off x="3645000" y="2181240"/>
              <a:ext cx="4766760" cy="11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组合 5"/>
            <p:cNvGrpSpPr/>
            <p:nvPr/>
          </p:nvGrpSpPr>
          <p:grpSpPr>
            <a:xfrm>
              <a:off x="755640" y="2351160"/>
              <a:ext cx="7704000" cy="2590560"/>
              <a:chOff x="755640" y="2351160"/>
              <a:chExt cx="7704000" cy="2590560"/>
            </a:xfrm>
          </p:grpSpPr>
          <p:sp>
            <p:nvSpPr>
              <p:cNvPr id="49" name="左中括号 6"/>
              <p:cNvSpPr/>
              <p:nvPr/>
            </p:nvSpPr>
            <p:spPr>
              <a:xfrm>
                <a:off x="3642480" y="2351160"/>
                <a:ext cx="192600" cy="617040"/>
              </a:xfrm>
              <a:custGeom>
                <a:avLst/>
                <a:gdLst>
                  <a:gd name="textAreaLeft" fmla="*/ 56520 w 192600"/>
                  <a:gd name="textAreaRight" fmla="*/ 192960 w 192600"/>
                  <a:gd name="textAreaTop" fmla="*/ 9720 h 617040"/>
                  <a:gd name="textAreaBottom" fmla="*/ 607320 h 61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346"/>
                      <a:pt x="0" y="692"/>
                    </a:cubicBezTo>
                    <a:lnTo>
                      <a:pt x="0" y="20908"/>
                    </a:lnTo>
                    <a:cubicBezTo>
                      <a:pt x="0" y="21254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4f81b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右中括号 7"/>
              <p:cNvSpPr/>
              <p:nvPr/>
            </p:nvSpPr>
            <p:spPr>
              <a:xfrm>
                <a:off x="8267040" y="2351160"/>
                <a:ext cx="192600" cy="617040"/>
              </a:xfrm>
              <a:custGeom>
                <a:avLst/>
                <a:gdLst>
                  <a:gd name="textAreaLeft" fmla="*/ 0 w 192600"/>
                  <a:gd name="textAreaRight" fmla="*/ 135000 w 192600"/>
                  <a:gd name="textAreaTop" fmla="*/ 9720 h 617040"/>
                  <a:gd name="textAreaBottom" fmla="*/ 607320 h 61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346"/>
                      <a:pt x="21600" y="692"/>
                    </a:cubicBezTo>
                    <a:lnTo>
                      <a:pt x="21600" y="20908"/>
                    </a:lnTo>
                    <a:cubicBezTo>
                      <a:pt x="21600" y="21254"/>
                      <a:pt x="108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4f81b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左中括号 8"/>
              <p:cNvSpPr/>
              <p:nvPr/>
            </p:nvSpPr>
            <p:spPr>
              <a:xfrm>
                <a:off x="3642480" y="3999240"/>
                <a:ext cx="192600" cy="617040"/>
              </a:xfrm>
              <a:custGeom>
                <a:avLst/>
                <a:gdLst>
                  <a:gd name="textAreaLeft" fmla="*/ 56520 w 192600"/>
                  <a:gd name="textAreaRight" fmla="*/ 192960 w 192600"/>
                  <a:gd name="textAreaTop" fmla="*/ 9720 h 617040"/>
                  <a:gd name="textAreaBottom" fmla="*/ 607320 h 61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346"/>
                      <a:pt x="0" y="692"/>
                    </a:cubicBezTo>
                    <a:lnTo>
                      <a:pt x="0" y="20908"/>
                    </a:lnTo>
                    <a:cubicBezTo>
                      <a:pt x="0" y="21254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4f81b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右中括号 9"/>
              <p:cNvSpPr/>
              <p:nvPr/>
            </p:nvSpPr>
            <p:spPr>
              <a:xfrm>
                <a:off x="8267040" y="3999240"/>
                <a:ext cx="192600" cy="617040"/>
              </a:xfrm>
              <a:custGeom>
                <a:avLst/>
                <a:gdLst>
                  <a:gd name="textAreaLeft" fmla="*/ 0 w 192600"/>
                  <a:gd name="textAreaRight" fmla="*/ 135000 w 192600"/>
                  <a:gd name="textAreaTop" fmla="*/ 9720 h 617040"/>
                  <a:gd name="textAreaBottom" fmla="*/ 607320 h 61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346"/>
                      <a:pt x="21600" y="692"/>
                    </a:cubicBezTo>
                    <a:lnTo>
                      <a:pt x="21600" y="20908"/>
                    </a:lnTo>
                    <a:cubicBezTo>
                      <a:pt x="21600" y="21254"/>
                      <a:pt x="108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4f81b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文本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8880" y="3792960"/>
                <a:ext cx="4766760" cy="11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下箭头 11"/>
              <p:cNvSpPr/>
              <p:nvPr/>
            </p:nvSpPr>
            <p:spPr>
              <a:xfrm>
                <a:off x="5569560" y="3168360"/>
                <a:ext cx="793080" cy="66564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剪去对角的矩形 12"/>
              <p:cNvSpPr/>
              <p:nvPr/>
            </p:nvSpPr>
            <p:spPr>
              <a:xfrm>
                <a:off x="755640" y="2351160"/>
                <a:ext cx="1152720" cy="482400"/>
              </a:xfrm>
              <a:prstGeom prst="pie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YaHei Consolas Hybrid"/>
                    <a:ea typeface="宋体"/>
                  </a:rPr>
                  <a:t>list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剪去对角的矩形 13"/>
              <p:cNvSpPr/>
              <p:nvPr/>
            </p:nvSpPr>
            <p:spPr>
              <a:xfrm>
                <a:off x="755640" y="3379680"/>
                <a:ext cx="1152720" cy="454680"/>
              </a:xfrm>
              <a:prstGeom prst="pie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YaHei Consolas Hybrid"/>
                    <a:ea typeface="宋体"/>
                  </a:rPr>
                  <a:t>list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剪去对角的矩形 14"/>
              <p:cNvSpPr/>
              <p:nvPr/>
            </p:nvSpPr>
            <p:spPr>
              <a:xfrm>
                <a:off x="755640" y="4533840"/>
                <a:ext cx="1152720" cy="407880"/>
              </a:xfrm>
              <a:prstGeom prst="pie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YaHei Consolas Hybrid"/>
                    <a:ea typeface="宋体"/>
                  </a:rPr>
                  <a:t>list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直线箭头连接符 13"/>
              <p:cNvCxnSpPr/>
              <p:nvPr/>
            </p:nvCxnSpPr>
            <p:spPr>
              <a:xfrm>
                <a:off x="1908000" y="2645280"/>
                <a:ext cx="173484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59" name="直线连接符 14"/>
              <p:cNvSpPr/>
              <p:nvPr/>
            </p:nvSpPr>
            <p:spPr>
              <a:xfrm>
                <a:off x="1908360" y="3606840"/>
                <a:ext cx="1734120" cy="6980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线连接符 15"/>
              <p:cNvSpPr/>
              <p:nvPr/>
            </p:nvSpPr>
            <p:spPr>
              <a:xfrm flipV="1">
                <a:off x="1908360" y="2759760"/>
                <a:ext cx="1734120" cy="19778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10-06T18:11:36Z</dcterms:modified>
  <cp:revision>2116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