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元组：戴上了枷锁的列表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由于和列表是近亲关系，所以元组和列表在实际使用上是非常相似的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我们这节课主要通过讨论元组和列表到底有什么不同来学习元组，酱紫大家就不会觉得老是重复一样的内容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我们主要从以下几个点来讨论学习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创键和访问一个元组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更新和删除一个元组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元组相关的操作符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87280" y="1844640"/>
          <a:ext cx="1513080" cy="410544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372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appen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exten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cou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2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remov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pop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sor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inser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2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cop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clea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2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rever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index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211640" y="1844640"/>
          <a:ext cx="4105440" cy="41054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372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按特定的顺序排序（从小到大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寻找并返回参数的索引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拷贝一个副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2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原地翻转所有的数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在最后增加一个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清空所有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删除一个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2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扩展列表（用另一个列表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计算并返回指定元素的数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2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在指定位置插入一个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删除并返回最后一个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小甲鱼</cp:lastModifiedBy>
  <cp:lastPrinted>1899-12-30T00:00:00Z</cp:lastPrinted>
  <dcterms:modified xsi:type="dcterms:W3CDTF">2013-10-12T20:01:38Z</dcterms:modified>
  <cp:revision>2127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