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序列！序列！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列表、元组和字符串的共同点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都可以通过索引得到每一个元素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默认索引值总是从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0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开始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可以通过分片的方法得到一个范围内的元素的集合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有很多共同的操作符（重复操作符、拼接操作符、成员关系操作符）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10-22T17:58:28Z</dcterms:modified>
  <cp:revision>2133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