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函数：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的乐高积木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3" descr=""/>
          <p:cNvPicPr/>
          <p:nvPr/>
        </p:nvPicPr>
        <p:blipFill>
          <a:blip r:embed="rId1"/>
          <a:stretch/>
        </p:blipFill>
        <p:spPr>
          <a:xfrm>
            <a:off x="2700360" y="1728720"/>
            <a:ext cx="367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函数：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的乐高积木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4560" y="1844640"/>
            <a:ext cx="6914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&gt;&gt;&gt; def MyFirstFunction():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print("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这是我创建的第一个函数！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"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print("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我表示很鸡冻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……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"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print("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在此我要感谢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TVB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，感谢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CCAV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，感谢小甲鱼老湿，感谢各位鱼油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……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"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&gt;&gt;&gt; MyFirstFunction(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这是我创建的第一个函数！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我表示很鸡冻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……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在此我要感谢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TVB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，感谢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CCAV</a:t>
            </a:r>
            <a:r>
              <a:rPr b="0" lang="zh-CN" sz="2000" spc="-1" strike="noStrike">
                <a:solidFill>
                  <a:srgbClr val="008000"/>
                </a:solidFill>
                <a:latin typeface="YaHei Consolas Hybrid"/>
              </a:rPr>
              <a:t>，感谢小甲鱼老湿，感谢各位鱼油</a:t>
            </a:r>
            <a:r>
              <a:rPr b="0" lang="en-US" sz="2000" spc="-1" strike="noStrike">
                <a:solidFill>
                  <a:srgbClr val="008000"/>
                </a:solidFill>
                <a:latin typeface="YaHei Consolas Hybrid"/>
              </a:rPr>
              <a:t>……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45" name="左弧形箭头 9"/>
          <p:cNvSpPr/>
          <p:nvPr/>
        </p:nvSpPr>
        <p:spPr>
          <a:xfrm flipH="1" rot="10800000">
            <a:off x="455760" y="1974960"/>
            <a:ext cx="569880" cy="2317680"/>
          </a:xfrm>
          <a:custGeom>
            <a:avLst/>
            <a:gdLst>
              <a:gd name="textAreaLeft" fmla="*/ 76320 w 569880"/>
              <a:gd name="textAreaRight" fmla="*/ 493560 w 569880"/>
              <a:gd name="textAreaTop" fmla="*/ 525960 h 2317680"/>
              <a:gd name="textAreaBottom" fmla="*/ 1720440 h 23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04" stAng="-5400000" swAng="-5400000"/>
                <a:lnTo>
                  <a:pt x="0" y="11132"/>
                </a:lnTo>
                <a:arcTo wR="21600" hR="9804" stAng="10800000" swAng="-3621973"/>
                <a:lnTo>
                  <a:pt x="16200" y="21289"/>
                </a:lnTo>
                <a:lnTo>
                  <a:pt x="21600" y="20272"/>
                </a:lnTo>
                <a:lnTo>
                  <a:pt x="16200" y="18633"/>
                </a:lnTo>
                <a:lnTo>
                  <a:pt x="16200" y="19297"/>
                </a:lnTo>
                <a:arcTo wR="21600" hR="9804" stAng="7178027" swAng="3516084"/>
                <a:lnTo>
                  <a:pt x="50" y="10468"/>
                </a:lnTo>
                <a:arcTo wR="21600" hR="9804" stAng="-10694111" swAng="5294111"/>
                <a:close/>
              </a:path>
              <a:path fill="darkenLess" w="21600" h="21600">
                <a:moveTo>
                  <a:pt x="21600" y="0"/>
                </a:moveTo>
                <a:arcTo wR="21600" hR="9804" stAng="-5400000" swAng="-5400000"/>
                <a:lnTo>
                  <a:pt x="0" y="9804"/>
                </a:lnTo>
                <a:arcTo wR="21600" hR="9804" stAng="10800000" swAng="-105889"/>
                <a:lnTo>
                  <a:pt x="50" y="10468"/>
                </a:lnTo>
                <a:arcTo wR="21600" hR="9804" stAng="-10694111" swAng="529411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图文框 11"/>
          <p:cNvSpPr/>
          <p:nvPr/>
        </p:nvSpPr>
        <p:spPr>
          <a:xfrm>
            <a:off x="1125360" y="2230560"/>
            <a:ext cx="7407360" cy="1485720"/>
          </a:xfrm>
          <a:custGeom>
            <a:avLst/>
            <a:gdLst/>
            <a:ahLst/>
            <a:rect l="l" t="t" r="r" b="b"/>
            <a:pathLst>
              <a:path w="7407275" h="1485900">
                <a:moveTo>
                  <a:pt x="0" y="0"/>
                </a:moveTo>
                <a:lnTo>
                  <a:pt x="7407275" y="0"/>
                </a:lnTo>
                <a:lnTo>
                  <a:pt x="7407275" y="1485900"/>
                </a:lnTo>
                <a:lnTo>
                  <a:pt x="0" y="148590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1485900"/>
                </a:lnTo>
                <a:lnTo>
                  <a:pt x="7407275" y="1485900"/>
                </a:lnTo>
                <a:lnTo>
                  <a:pt x="7407275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虚尾箭头 16"/>
          <p:cNvSpPr/>
          <p:nvPr/>
        </p:nvSpPr>
        <p:spPr>
          <a:xfrm rot="5400000">
            <a:off x="8021880" y="3151800"/>
            <a:ext cx="395280" cy="358920"/>
          </a:xfrm>
          <a:custGeom>
            <a:avLst/>
            <a:gdLst/>
            <a:ahLst/>
            <a:rect l="l" t="t" r="r" b="b"/>
            <a:pathLst>
              <a:path w="395288" h="358775">
                <a:moveTo>
                  <a:pt x="0" y="89694"/>
                </a:moveTo>
                <a:lnTo>
                  <a:pt x="11212" y="89694"/>
                </a:lnTo>
                <a:lnTo>
                  <a:pt x="11212" y="269081"/>
                </a:lnTo>
                <a:lnTo>
                  <a:pt x="0" y="269081"/>
                </a:lnTo>
                <a:lnTo>
                  <a:pt x="0" y="89694"/>
                </a:lnTo>
                <a:close/>
                <a:moveTo>
                  <a:pt x="22423" y="89694"/>
                </a:moveTo>
                <a:lnTo>
                  <a:pt x="44847" y="89694"/>
                </a:lnTo>
                <a:lnTo>
                  <a:pt x="44847" y="269081"/>
                </a:lnTo>
                <a:lnTo>
                  <a:pt x="22423" y="269081"/>
                </a:lnTo>
                <a:lnTo>
                  <a:pt x="22423" y="89694"/>
                </a:lnTo>
                <a:close/>
                <a:moveTo>
                  <a:pt x="56059" y="89694"/>
                </a:moveTo>
                <a:lnTo>
                  <a:pt x="215901" y="89694"/>
                </a:lnTo>
                <a:lnTo>
                  <a:pt x="215901" y="0"/>
                </a:lnTo>
                <a:lnTo>
                  <a:pt x="395288" y="179388"/>
                </a:lnTo>
                <a:lnTo>
                  <a:pt x="215901" y="358775"/>
                </a:lnTo>
                <a:lnTo>
                  <a:pt x="215901" y="269081"/>
                </a:lnTo>
                <a:lnTo>
                  <a:pt x="56059" y="269081"/>
                </a:lnTo>
                <a:lnTo>
                  <a:pt x="56059" y="896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右弧形箭头 2"/>
          <p:cNvSpPr/>
          <p:nvPr/>
        </p:nvSpPr>
        <p:spPr>
          <a:xfrm>
            <a:off x="8116920" y="4038480"/>
            <a:ext cx="360360" cy="1224000"/>
          </a:xfrm>
          <a:custGeom>
            <a:avLst/>
            <a:gdLst>
              <a:gd name="textAreaLeft" fmla="*/ 48240 w 360360"/>
              <a:gd name="textAreaRight" fmla="*/ 312120 w 360360"/>
              <a:gd name="textAreaTop" fmla="*/ 272160 h 1224000"/>
              <a:gd name="textAreaBottom" fmla="*/ 9068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08" stAng="-5400000" swAng="5400000"/>
                <a:lnTo>
                  <a:pt x="21600" y="11198"/>
                </a:lnTo>
                <a:arcTo wR="21600" hR="9608" stAng="0" swAng="3591906"/>
                <a:lnTo>
                  <a:pt x="5400" y="21295"/>
                </a:lnTo>
                <a:lnTo>
                  <a:pt x="0" y="20010"/>
                </a:lnTo>
                <a:lnTo>
                  <a:pt x="5400" y="18115"/>
                </a:lnTo>
                <a:lnTo>
                  <a:pt x="5400" y="18910"/>
                </a:lnTo>
                <a:arcTo wR="21600" hR="9608" stAng="3591906" swAng="-3465000"/>
                <a:lnTo>
                  <a:pt x="21526" y="10403"/>
                </a:lnTo>
                <a:arcTo wR="21600" hR="9608" stAng="-126906" swAng="-5273094"/>
                <a:close/>
              </a:path>
              <a:path fill="darkenLess" w="21600" h="21600">
                <a:moveTo>
                  <a:pt x="0" y="0"/>
                </a:moveTo>
                <a:arcTo wR="21600" hR="9608" stAng="-5400000" swAng="5400000"/>
                <a:lnTo>
                  <a:pt x="21600" y="11198"/>
                </a:lnTo>
                <a:arcTo wR="21600" hR="9608" stAng="0" swAng="-126906"/>
                <a:lnTo>
                  <a:pt x="21526" y="10403"/>
                </a:lnTo>
                <a:arcTo wR="21600" hR="9608" stAng="-126906" swAng="-527309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图文框 3"/>
          <p:cNvSpPr/>
          <p:nvPr/>
        </p:nvSpPr>
        <p:spPr>
          <a:xfrm>
            <a:off x="1114560" y="4368960"/>
            <a:ext cx="6842160" cy="1423800"/>
          </a:xfrm>
          <a:custGeom>
            <a:avLst/>
            <a:gdLst/>
            <a:ahLst/>
            <a:rect l="l" t="t" r="r" b="b"/>
            <a:pathLst>
              <a:path w="6842125" h="1423988">
                <a:moveTo>
                  <a:pt x="0" y="0"/>
                </a:moveTo>
                <a:lnTo>
                  <a:pt x="6842125" y="0"/>
                </a:lnTo>
                <a:lnTo>
                  <a:pt x="6842125" y="1423988"/>
                </a:lnTo>
                <a:lnTo>
                  <a:pt x="0" y="142398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1423988"/>
                </a:lnTo>
                <a:lnTo>
                  <a:pt x="6842125" y="1423988"/>
                </a:lnTo>
                <a:lnTo>
                  <a:pt x="684212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2825"/>
              </a:gs>
              <a:gs pos="100000">
                <a:srgbClr val="bb3531"/>
              </a:gs>
            </a:gsLst>
            <a:lin ang="16200000"/>
          </a:gradFill>
          <a:ln w="9360">
            <a:solidFill>
              <a:srgbClr val="ad4441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函数的参数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1" name="Picture 2" descr="C:\Users\小甲鱼\Desktop\2-120411094135262.png"/>
          <p:cNvPicPr/>
          <p:nvPr/>
        </p:nvPicPr>
        <p:blipFill>
          <a:blip r:embed="rId1"/>
          <a:stretch/>
        </p:blipFill>
        <p:spPr>
          <a:xfrm>
            <a:off x="2340000" y="1722600"/>
            <a:ext cx="4392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函数的返回值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6560" y="1663200"/>
            <a:ext cx="8229600" cy="452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小甲鱼\Desktop\2-120411094135262.png"/>
          <p:cNvPicPr/>
          <p:nvPr/>
        </p:nvPicPr>
        <p:blipFill>
          <a:blip r:embed="rId2"/>
          <a:stretch/>
        </p:blipFill>
        <p:spPr>
          <a:xfrm>
            <a:off x="2340000" y="1722600"/>
            <a:ext cx="4392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FishC000</cp:lastModifiedBy>
  <cp:lastPrinted>1899-12-30T00:00:00Z</cp:lastPrinted>
  <dcterms:modified xsi:type="dcterms:W3CDTF">2013-11-25T12:24:37Z</dcterms:modified>
  <cp:revision>2141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