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形参和实参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25000" y="1844640"/>
            <a:ext cx="69152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&gt;&gt;&gt; def MyFirstFunction(name)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'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函数定义过程中的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name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是叫形参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'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#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因为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只是一个形式，表示占据一个参数位置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print('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传递进来的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' + name + '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叫做实参，因为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是具体的参数值！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'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&gt;&gt;&gt; MyFirstFunction('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小甲鱼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'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传递进来的小甲鱼叫做实参，因为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是具体的参数值！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43" name="左弧形箭头 9"/>
          <p:cNvSpPr/>
          <p:nvPr/>
        </p:nvSpPr>
        <p:spPr>
          <a:xfrm flipH="1" rot="10800000">
            <a:off x="466920" y="1974960"/>
            <a:ext cx="569880" cy="2317680"/>
          </a:xfrm>
          <a:custGeom>
            <a:avLst/>
            <a:gdLst>
              <a:gd name="textAreaLeft" fmla="*/ 76320 w 569880"/>
              <a:gd name="textAreaRight" fmla="*/ 493560 w 569880"/>
              <a:gd name="textAreaTop" fmla="*/ 525960 h 2317680"/>
              <a:gd name="textAreaBottom" fmla="*/ 1720440 h 23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04" stAng="-5400000" swAng="-5400000"/>
                <a:lnTo>
                  <a:pt x="0" y="11132"/>
                </a:lnTo>
                <a:arcTo wR="21600" hR="9804" stAng="10800000" swAng="-3621973"/>
                <a:lnTo>
                  <a:pt x="16200" y="21289"/>
                </a:lnTo>
                <a:lnTo>
                  <a:pt x="21600" y="20272"/>
                </a:lnTo>
                <a:lnTo>
                  <a:pt x="16200" y="18633"/>
                </a:lnTo>
                <a:lnTo>
                  <a:pt x="16200" y="19297"/>
                </a:lnTo>
                <a:arcTo wR="21600" hR="9804" stAng="7178027" swAng="3516084"/>
                <a:lnTo>
                  <a:pt x="50" y="10468"/>
                </a:lnTo>
                <a:arcTo wR="21600" hR="9804" stAng="-10694111" swAng="5294111"/>
                <a:close/>
              </a:path>
              <a:path fill="darkenLess" w="21600" h="21600">
                <a:moveTo>
                  <a:pt x="21600" y="0"/>
                </a:moveTo>
                <a:arcTo wR="21600" hR="9804" stAng="-5400000" swAng="-5400000"/>
                <a:lnTo>
                  <a:pt x="0" y="9804"/>
                </a:lnTo>
                <a:arcTo wR="21600" hR="9804" stAng="10800000" swAng="-105889"/>
                <a:lnTo>
                  <a:pt x="50" y="10468"/>
                </a:lnTo>
                <a:arcTo wR="21600" hR="9804" stAng="-10694111" swAng="529411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图文框 11"/>
          <p:cNvSpPr/>
          <p:nvPr/>
        </p:nvSpPr>
        <p:spPr>
          <a:xfrm>
            <a:off x="1136520" y="2230560"/>
            <a:ext cx="7407360" cy="1485720"/>
          </a:xfrm>
          <a:custGeom>
            <a:avLst/>
            <a:gdLst/>
            <a:ahLst/>
            <a:rect l="l" t="t" r="r" b="b"/>
            <a:pathLst>
              <a:path w="7407275" h="1485900">
                <a:moveTo>
                  <a:pt x="0" y="0"/>
                </a:moveTo>
                <a:lnTo>
                  <a:pt x="7407275" y="0"/>
                </a:lnTo>
                <a:lnTo>
                  <a:pt x="7407275" y="1485900"/>
                </a:lnTo>
                <a:lnTo>
                  <a:pt x="0" y="148590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1485900"/>
                </a:lnTo>
                <a:lnTo>
                  <a:pt x="7407275" y="1485900"/>
                </a:lnTo>
                <a:lnTo>
                  <a:pt x="7407275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虚尾箭头 16"/>
          <p:cNvSpPr/>
          <p:nvPr/>
        </p:nvSpPr>
        <p:spPr>
          <a:xfrm rot="5400000">
            <a:off x="8021880" y="2991240"/>
            <a:ext cx="395280" cy="358920"/>
          </a:xfrm>
          <a:custGeom>
            <a:avLst/>
            <a:gdLst/>
            <a:ahLst/>
            <a:rect l="l" t="t" r="r" b="b"/>
            <a:pathLst>
              <a:path w="395287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lnTo>
                  <a:pt x="0" y="89694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lnTo>
                  <a:pt x="22423" y="89694"/>
                </a:lnTo>
                <a:close/>
                <a:moveTo>
                  <a:pt x="56059" y="89694"/>
                </a:moveTo>
                <a:lnTo>
                  <a:pt x="215900" y="89694"/>
                </a:lnTo>
                <a:lnTo>
                  <a:pt x="215900" y="0"/>
                </a:lnTo>
                <a:lnTo>
                  <a:pt x="395287" y="179388"/>
                </a:lnTo>
                <a:lnTo>
                  <a:pt x="215900" y="358775"/>
                </a:lnTo>
                <a:lnTo>
                  <a:pt x="215900" y="269081"/>
                </a:lnTo>
                <a:lnTo>
                  <a:pt x="56059" y="269081"/>
                </a:lnTo>
                <a:lnTo>
                  <a:pt x="56059" y="896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右弧形箭头 2"/>
          <p:cNvSpPr/>
          <p:nvPr/>
        </p:nvSpPr>
        <p:spPr>
          <a:xfrm>
            <a:off x="8112240" y="3529080"/>
            <a:ext cx="360360" cy="1090440"/>
          </a:xfrm>
          <a:custGeom>
            <a:avLst/>
            <a:gdLst>
              <a:gd name="textAreaLeft" fmla="*/ 48240 w 360360"/>
              <a:gd name="textAreaRight" fmla="*/ 312120 w 360360"/>
              <a:gd name="textAreaTop" fmla="*/ 238680 h 1090440"/>
              <a:gd name="textAreaBottom" fmla="*/ 806760 h 10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2" stAng="-5400000" swAng="5400000"/>
                <a:lnTo>
                  <a:pt x="21600" y="11247"/>
                </a:lnTo>
                <a:arcTo wR="21600" hR="9462" stAng="0" swAng="3568963"/>
                <a:lnTo>
                  <a:pt x="5400" y="21300"/>
                </a:lnTo>
                <a:lnTo>
                  <a:pt x="0" y="19816"/>
                </a:lnTo>
                <a:lnTo>
                  <a:pt x="5400" y="17731"/>
                </a:lnTo>
                <a:lnTo>
                  <a:pt x="5400" y="18623"/>
                </a:lnTo>
                <a:arcTo wR="21600" hR="9462" stAng="3568963" swAng="-3426362"/>
                <a:lnTo>
                  <a:pt x="21504" y="10354"/>
                </a:lnTo>
                <a:arcTo wR="21600" hR="9462" stAng="-142600" swAng="-5257400"/>
                <a:close/>
              </a:path>
              <a:path fill="darkenLess" w="21600" h="21600">
                <a:moveTo>
                  <a:pt x="0" y="0"/>
                </a:moveTo>
                <a:arcTo wR="21600" hR="9462" stAng="-5400000" swAng="5400000"/>
                <a:lnTo>
                  <a:pt x="21600" y="11247"/>
                </a:lnTo>
                <a:arcTo wR="21600" hR="9462" stAng="0" swAng="-142600"/>
                <a:lnTo>
                  <a:pt x="21504" y="10354"/>
                </a:lnTo>
                <a:arcTo wR="21600" hR="9462" stAng="-142600" swAng="-52574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图文框 3"/>
          <p:cNvSpPr/>
          <p:nvPr/>
        </p:nvSpPr>
        <p:spPr>
          <a:xfrm>
            <a:off x="1136520" y="3938760"/>
            <a:ext cx="6842160" cy="858600"/>
          </a:xfrm>
          <a:custGeom>
            <a:avLst/>
            <a:gdLst/>
            <a:ahLst/>
            <a:rect l="l" t="t" r="r" b="b"/>
            <a:pathLst>
              <a:path w="6842125" h="858837">
                <a:moveTo>
                  <a:pt x="0" y="0"/>
                </a:moveTo>
                <a:lnTo>
                  <a:pt x="6842125" y="0"/>
                </a:lnTo>
                <a:lnTo>
                  <a:pt x="6842125" y="858837"/>
                </a:lnTo>
                <a:lnTo>
                  <a:pt x="0" y="8588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858837"/>
                </a:lnTo>
                <a:lnTo>
                  <a:pt x="6842125" y="858837"/>
                </a:lnTo>
                <a:lnTo>
                  <a:pt x="684212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2825"/>
              </a:gs>
              <a:gs pos="100000">
                <a:srgbClr val="bb3531"/>
              </a:gs>
            </a:gsLst>
            <a:lin ang="16200000"/>
          </a:gradFill>
          <a:ln w="9360">
            <a:solidFill>
              <a:srgbClr val="ad4441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华文行楷"/>
              </a:rPr>
              <a:t>函数文档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9" name="Picture 2" descr="C:\Users\小甲鱼\Desktop\2-120411094135262.png"/>
          <p:cNvPicPr/>
          <p:nvPr/>
        </p:nvPicPr>
        <p:blipFill>
          <a:blip r:embed="rId1"/>
          <a:stretch/>
        </p:blipFill>
        <p:spPr>
          <a:xfrm>
            <a:off x="2340000" y="1722600"/>
            <a:ext cx="4392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华文行楷"/>
              </a:rPr>
              <a:t>关键字参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1" name="Picture 2" descr="C:\Users\小甲鱼\Desktop\2-120411094135262.png"/>
          <p:cNvPicPr/>
          <p:nvPr/>
        </p:nvPicPr>
        <p:blipFill>
          <a:blip r:embed="rId1"/>
          <a:stretch/>
        </p:blipFill>
        <p:spPr>
          <a:xfrm>
            <a:off x="2340000" y="1722600"/>
            <a:ext cx="4392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默认参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3" name="Picture 2" descr="C:\Users\小甲鱼\Desktop\2-120411094135262.png"/>
          <p:cNvPicPr/>
          <p:nvPr/>
        </p:nvPicPr>
        <p:blipFill>
          <a:blip r:embed="rId1"/>
          <a:stretch/>
        </p:blipFill>
        <p:spPr>
          <a:xfrm>
            <a:off x="2340000" y="1722600"/>
            <a:ext cx="4392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收集参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5" name="Picture 2" descr="C:\Users\小甲鱼\Desktop\2-120411094135262.png"/>
          <p:cNvPicPr/>
          <p:nvPr/>
        </p:nvPicPr>
        <p:blipFill>
          <a:blip r:embed="rId1"/>
          <a:stretch/>
        </p:blipFill>
        <p:spPr>
          <a:xfrm>
            <a:off x="2374920" y="1662120"/>
            <a:ext cx="43927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FishC000</cp:lastModifiedBy>
  <cp:lastPrinted>1899-12-30T00:00:00Z</cp:lastPrinted>
  <dcterms:modified xsi:type="dcterms:W3CDTF">2013-11-28T09:11:16Z</dcterms:modified>
  <cp:revision>2148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