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lambda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表达式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3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389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lambda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表达式的作用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6560" y="1700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写一些执行脚本时，使用</a:t>
            </a:r>
            <a:r>
              <a:rPr b="0" lang="en-US" sz="2500" spc="-1" strike="noStrike">
                <a:solidFill>
                  <a:srgbClr val="008000"/>
                </a:solidFill>
                <a:latin typeface="YaHei Consolas Hybrid"/>
              </a:rPr>
              <a:t>lambda</a:t>
            </a: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就可以省下定义函数过程，比如说我们只是需要写个简单的脚本来管理服务器时间，我们就不需要专门定义一个函数然后再写调用，使用</a:t>
            </a:r>
            <a:r>
              <a:rPr b="0" lang="en-US" sz="2500" spc="-1" strike="noStrike">
                <a:solidFill>
                  <a:srgbClr val="008000"/>
                </a:solidFill>
                <a:latin typeface="YaHei Consolas Hybrid"/>
              </a:rPr>
              <a:t>lambda</a:t>
            </a: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就可以使得代码更加精简。</a:t>
            </a:r>
            <a:endParaRPr b="0" lang="en-US" sz="25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对于一些比较抽象并且整个程序执行下来只需要调用一两次的函数，有时候给函数起个名字也是比较头疼的问题，使用</a:t>
            </a:r>
            <a:r>
              <a:rPr b="0" lang="en-US" sz="2500" spc="-1" strike="noStrike">
                <a:solidFill>
                  <a:srgbClr val="008000"/>
                </a:solidFill>
                <a:latin typeface="YaHei Consolas Hybrid"/>
              </a:rPr>
              <a:t>lambda</a:t>
            </a: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就不需要考虑命名的问题了。</a:t>
            </a:r>
            <a:endParaRPr b="0" lang="en-US" sz="25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简化代码的可读性，由于普通的屌丝函数阅读经常要跳到开头</a:t>
            </a:r>
            <a:r>
              <a:rPr b="0" lang="en-US" sz="2500" spc="-1" strike="noStrike">
                <a:solidFill>
                  <a:srgbClr val="008000"/>
                </a:solidFill>
                <a:latin typeface="YaHei Consolas Hybrid"/>
              </a:rPr>
              <a:t>def</a:t>
            </a: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定义部分，使用</a:t>
            </a:r>
            <a:r>
              <a:rPr b="0" lang="en-US" sz="2500" spc="-1" strike="noStrike">
                <a:solidFill>
                  <a:srgbClr val="008000"/>
                </a:solidFill>
                <a:latin typeface="YaHei Consolas Hybrid"/>
              </a:rPr>
              <a:t>lambda</a:t>
            </a:r>
            <a:r>
              <a:rPr b="0" lang="zh-CN" sz="2500" spc="-1" strike="noStrike">
                <a:solidFill>
                  <a:srgbClr val="008000"/>
                </a:solidFill>
                <a:latin typeface="YaHei Consolas Hybrid"/>
              </a:rPr>
              <a:t>函数可以省去这样的步骤。</a:t>
            </a:r>
            <a:endParaRPr b="0" lang="en-US" sz="25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两个牛逼的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BIF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389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3-12-07T15:09:25Z</dcterms:modified>
  <cp:revision>2156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