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递归是神马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2" name="内容占位符 3" descr=""/>
          <p:cNvPicPr/>
          <p:nvPr/>
        </p:nvPicPr>
        <p:blipFill>
          <a:blip r:embed="rId1"/>
          <a:stretch/>
        </p:blipFill>
        <p:spPr>
          <a:xfrm>
            <a:off x="2376360" y="1773360"/>
            <a:ext cx="438948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汉诺塔游戏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457200" y="2060640"/>
            <a:ext cx="82296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树结构的定义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1614600" y="1844640"/>
            <a:ext cx="5914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谢尔宾斯基三角形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8" name="图片 3" descr=""/>
          <p:cNvPicPr/>
          <p:nvPr/>
        </p:nvPicPr>
        <p:blipFill>
          <a:blip r:embed="rId1"/>
          <a:stretch/>
        </p:blipFill>
        <p:spPr>
          <a:xfrm>
            <a:off x="2246400" y="1795320"/>
            <a:ext cx="46512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女神自拍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50" name="图片 3" descr=""/>
          <p:cNvPicPr/>
          <p:nvPr/>
        </p:nvPicPr>
        <p:blipFill>
          <a:blip r:embed="rId1"/>
          <a:stretch/>
        </p:blipFill>
        <p:spPr>
          <a:xfrm>
            <a:off x="1706400" y="1773360"/>
            <a:ext cx="57312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递归求阶乘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写一个求阶乘的函数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正整数阶乘指从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1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乘以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2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乘以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3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乘以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4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一直乘到所要求的数。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例如所给的数是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5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，则阶乘式是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1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×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2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×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3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×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4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×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5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，得到的积是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120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，所以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120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就是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4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的阶乘。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递归求阶乘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假设我们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n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的值传入是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5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，那么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pic>
        <p:nvPicPr>
          <p:cNvPr id="55" name="图示 5" descr=""/>
          <p:cNvPicPr/>
          <p:nvPr/>
        </p:nvPicPr>
        <p:blipFill>
          <a:blip r:embed="rId1"/>
          <a:stretch/>
        </p:blipFill>
        <p:spPr>
          <a:xfrm>
            <a:off x="914400" y="2309760"/>
            <a:ext cx="6808680" cy="3633840"/>
          </a:xfrm>
          <a:prstGeom prst="rect">
            <a:avLst/>
          </a:prstGeom>
          <a:ln w="0">
            <a:noFill/>
          </a:ln>
        </p:spPr>
      </p:pic>
      <p:sp>
        <p:nvSpPr>
          <p:cNvPr id="56" name="右弧形箭头 6"/>
          <p:cNvSpPr/>
          <p:nvPr/>
        </p:nvSpPr>
        <p:spPr>
          <a:xfrm flipV="1">
            <a:off x="7451640" y="4796640"/>
            <a:ext cx="289080" cy="647640"/>
          </a:xfrm>
          <a:custGeom>
            <a:avLst/>
            <a:gdLst>
              <a:gd name="textAreaLeft" fmla="*/ 38520 w 289080"/>
              <a:gd name="textAreaRight" fmla="*/ 250560 w 289080"/>
              <a:gd name="textAreaTop" fmla="*/ 134280 h 647640"/>
              <a:gd name="textAreaBottom" fmla="*/ 4762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94" stAng="-5400000" swAng="5400000"/>
                <a:lnTo>
                  <a:pt x="21600" y="11402"/>
                </a:lnTo>
                <a:arcTo wR="21600" hR="8994" stAng="0" swAng="3491754"/>
                <a:lnTo>
                  <a:pt x="5400" y="21314"/>
                </a:lnTo>
                <a:lnTo>
                  <a:pt x="0" y="19191"/>
                </a:lnTo>
                <a:lnTo>
                  <a:pt x="5400" y="16496"/>
                </a:lnTo>
                <a:lnTo>
                  <a:pt x="5400" y="17701"/>
                </a:lnTo>
                <a:arcTo wR="21600" hR="8994" stAng="3491754" swAng="-3298595"/>
                <a:lnTo>
                  <a:pt x="21406" y="10198"/>
                </a:lnTo>
                <a:arcTo wR="21600" hR="8994" stAng="-193160" swAng="-5206840"/>
                <a:close/>
              </a:path>
              <a:path fill="darkenLess" w="21600" h="21600">
                <a:moveTo>
                  <a:pt x="0" y="0"/>
                </a:moveTo>
                <a:arcTo wR="21600" hR="8994" stAng="-5400000" swAng="5400000"/>
                <a:lnTo>
                  <a:pt x="21600" y="11402"/>
                </a:lnTo>
                <a:arcTo wR="21600" hR="8994" stAng="0" swAng="-193160"/>
                <a:lnTo>
                  <a:pt x="21406" y="10198"/>
                </a:lnTo>
                <a:arcTo wR="21600" hR="8994" stAng="-193160" swAng="-5206840"/>
                <a:close/>
              </a:path>
            </a:pathLst>
          </a:custGeom>
          <a:gradFill rotWithShape="0">
            <a:gsLst>
              <a:gs pos="0">
                <a:srgbClr val="f6a7a5"/>
              </a:gs>
              <a:gs pos="100000">
                <a:srgbClr val="fde7e6"/>
              </a:gs>
            </a:gsLst>
            <a:lin ang="16200000"/>
          </a:gradFill>
          <a:ln w="9360">
            <a:solidFill>
              <a:srgbClr val="ad444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右弧形箭头 7"/>
          <p:cNvSpPr/>
          <p:nvPr/>
        </p:nvSpPr>
        <p:spPr>
          <a:xfrm flipV="1">
            <a:off x="7058160" y="4075920"/>
            <a:ext cx="287280" cy="647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34640 h 647640"/>
              <a:gd name="textAreaBottom" fmla="*/ 4766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04" stAng="-5400000" swAng="5400000"/>
                <a:lnTo>
                  <a:pt x="21600" y="11399"/>
                </a:lnTo>
                <a:arcTo wR="21600" hR="9004" stAng="0" swAng="3493465"/>
                <a:lnTo>
                  <a:pt x="5400" y="21314"/>
                </a:lnTo>
                <a:lnTo>
                  <a:pt x="0" y="19205"/>
                </a:lnTo>
                <a:lnTo>
                  <a:pt x="5400" y="16523"/>
                </a:lnTo>
                <a:lnTo>
                  <a:pt x="5400" y="17721"/>
                </a:lnTo>
                <a:arcTo wR="21600" hR="9004" stAng="3493465" swAng="-3301369"/>
                <a:lnTo>
                  <a:pt x="21408" y="10201"/>
                </a:lnTo>
                <a:arcTo wR="21600" hR="9004" stAng="-192096" swAng="-5207904"/>
                <a:close/>
              </a:path>
              <a:path fill="darkenLess" w="21600" h="21600">
                <a:moveTo>
                  <a:pt x="0" y="0"/>
                </a:moveTo>
                <a:arcTo wR="21600" hR="9004" stAng="-5400000" swAng="5400000"/>
                <a:lnTo>
                  <a:pt x="21600" y="11399"/>
                </a:lnTo>
                <a:arcTo wR="21600" hR="9004" stAng="0" swAng="-192096"/>
                <a:lnTo>
                  <a:pt x="21408" y="10201"/>
                </a:lnTo>
                <a:arcTo wR="21600" hR="9004" stAng="-192096" swAng="-5207904"/>
                <a:close/>
              </a:path>
            </a:pathLst>
          </a:custGeom>
          <a:gradFill rotWithShape="0">
            <a:gsLst>
              <a:gs pos="0">
                <a:srgbClr val="f6a7a5"/>
              </a:gs>
              <a:gs pos="100000">
                <a:srgbClr val="fde7e6"/>
              </a:gs>
            </a:gsLst>
            <a:lin ang="16200000"/>
          </a:gradFill>
          <a:ln w="9360">
            <a:solidFill>
              <a:srgbClr val="ad444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右弧形箭头 8"/>
          <p:cNvSpPr/>
          <p:nvPr/>
        </p:nvSpPr>
        <p:spPr>
          <a:xfrm flipV="1">
            <a:off x="6688080" y="3371040"/>
            <a:ext cx="289080" cy="647640"/>
          </a:xfrm>
          <a:custGeom>
            <a:avLst/>
            <a:gdLst>
              <a:gd name="textAreaLeft" fmla="*/ 38520 w 289080"/>
              <a:gd name="textAreaRight" fmla="*/ 250560 w 289080"/>
              <a:gd name="textAreaTop" fmla="*/ 134280 h 647640"/>
              <a:gd name="textAreaBottom" fmla="*/ 4762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94" stAng="-5400000" swAng="5400000"/>
                <a:lnTo>
                  <a:pt x="21600" y="11402"/>
                </a:lnTo>
                <a:arcTo wR="21600" hR="8994" stAng="0" swAng="3491754"/>
                <a:lnTo>
                  <a:pt x="5400" y="21314"/>
                </a:lnTo>
                <a:lnTo>
                  <a:pt x="0" y="19191"/>
                </a:lnTo>
                <a:lnTo>
                  <a:pt x="5400" y="16496"/>
                </a:lnTo>
                <a:lnTo>
                  <a:pt x="5400" y="17701"/>
                </a:lnTo>
                <a:arcTo wR="21600" hR="8994" stAng="3491754" swAng="-3298595"/>
                <a:lnTo>
                  <a:pt x="21406" y="10198"/>
                </a:lnTo>
                <a:arcTo wR="21600" hR="8994" stAng="-193160" swAng="-5206840"/>
                <a:close/>
              </a:path>
              <a:path fill="darkenLess" w="21600" h="21600">
                <a:moveTo>
                  <a:pt x="0" y="0"/>
                </a:moveTo>
                <a:arcTo wR="21600" hR="8994" stAng="-5400000" swAng="5400000"/>
                <a:lnTo>
                  <a:pt x="21600" y="11402"/>
                </a:lnTo>
                <a:arcTo wR="21600" hR="8994" stAng="0" swAng="-193160"/>
                <a:lnTo>
                  <a:pt x="21406" y="10198"/>
                </a:lnTo>
                <a:arcTo wR="21600" hR="8994" stAng="-193160" swAng="-5206840"/>
                <a:close/>
              </a:path>
            </a:pathLst>
          </a:custGeom>
          <a:gradFill rotWithShape="0">
            <a:gsLst>
              <a:gs pos="0">
                <a:srgbClr val="f6a7a5"/>
              </a:gs>
              <a:gs pos="100000">
                <a:srgbClr val="fde7e6"/>
              </a:gs>
            </a:gsLst>
            <a:lin ang="16200000"/>
          </a:gradFill>
          <a:ln w="9360">
            <a:solidFill>
              <a:srgbClr val="ad444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弧形箭头 9"/>
          <p:cNvSpPr/>
          <p:nvPr/>
        </p:nvSpPr>
        <p:spPr>
          <a:xfrm flipV="1">
            <a:off x="6343560" y="2636280"/>
            <a:ext cx="287280" cy="647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34640 h 647640"/>
              <a:gd name="textAreaBottom" fmla="*/ 4766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04" stAng="-5400000" swAng="5400000"/>
                <a:lnTo>
                  <a:pt x="21600" y="11399"/>
                </a:lnTo>
                <a:arcTo wR="21600" hR="9004" stAng="0" swAng="3493465"/>
                <a:lnTo>
                  <a:pt x="5400" y="21314"/>
                </a:lnTo>
                <a:lnTo>
                  <a:pt x="0" y="19205"/>
                </a:lnTo>
                <a:lnTo>
                  <a:pt x="5400" y="16523"/>
                </a:lnTo>
                <a:lnTo>
                  <a:pt x="5400" y="17721"/>
                </a:lnTo>
                <a:arcTo wR="21600" hR="9004" stAng="3493465" swAng="-3301369"/>
                <a:lnTo>
                  <a:pt x="21408" y="10201"/>
                </a:lnTo>
                <a:arcTo wR="21600" hR="9004" stAng="-192096" swAng="-5207904"/>
                <a:close/>
              </a:path>
              <a:path fill="darkenLess" w="21600" h="21600">
                <a:moveTo>
                  <a:pt x="0" y="0"/>
                </a:moveTo>
                <a:arcTo wR="21600" hR="9004" stAng="-5400000" swAng="5400000"/>
                <a:lnTo>
                  <a:pt x="21600" y="11399"/>
                </a:lnTo>
                <a:arcTo wR="21600" hR="9004" stAng="0" swAng="-192096"/>
                <a:lnTo>
                  <a:pt x="21408" y="10201"/>
                </a:lnTo>
                <a:arcTo wR="21600" hR="9004" stAng="-192096" swAng="-5207904"/>
                <a:close/>
              </a:path>
            </a:pathLst>
          </a:custGeom>
          <a:gradFill rotWithShape="0">
            <a:gsLst>
              <a:gs pos="0">
                <a:srgbClr val="f6a7a5"/>
              </a:gs>
              <a:gs pos="100000">
                <a:srgbClr val="fde7e6"/>
              </a:gs>
            </a:gsLst>
            <a:lin ang="16200000"/>
          </a:gradFill>
          <a:ln w="9360">
            <a:solidFill>
              <a:srgbClr val="ad444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李佳宇</cp:lastModifiedBy>
  <cp:lastPrinted>1899-12-30T00:00:00Z</cp:lastPrinted>
  <dcterms:modified xsi:type="dcterms:W3CDTF">2013-12-12T03:23:20Z</dcterms:modified>
  <cp:revision>2162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