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递归 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– 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汉诺塔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2" name="内容占位符 3" descr=""/>
          <p:cNvPicPr/>
          <p:nvPr/>
        </p:nvPicPr>
        <p:blipFill>
          <a:blip r:embed="rId1"/>
          <a:stretch/>
        </p:blipFill>
        <p:spPr>
          <a:xfrm>
            <a:off x="2376360" y="1773360"/>
            <a:ext cx="438948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递归求解汉诺塔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4" name="Picture 4" descr="C:\Users\小甲鱼\Desktop\tstj11_03.jpg"/>
          <p:cNvPicPr/>
          <p:nvPr/>
        </p:nvPicPr>
        <p:blipFill>
          <a:blip r:embed="rId1"/>
          <a:stretch/>
        </p:blipFill>
        <p:spPr>
          <a:xfrm>
            <a:off x="1332000" y="1728720"/>
            <a:ext cx="6480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递归求解汉诺塔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6560" y="170028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对于游戏的玩法，我们可以简单分解为三个步骤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将前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63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个盘子从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X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移动到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Y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上。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将最底下的第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64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个盘子从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X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移动到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Z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上。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将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Y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上的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63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个盘子移动到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Z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上。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问题一：将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X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上的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63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个盘子借助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Z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移到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Y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上；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问题二：将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Y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上的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63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个盘子借助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X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移到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Z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上。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递归求解汉诺塔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6560" y="178128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问题一（“将</a:t>
            </a:r>
            <a:r>
              <a:rPr b="0" lang="en-US" sz="2400" spc="-1" strike="noStrike">
                <a:solidFill>
                  <a:srgbClr val="008000"/>
                </a:solidFill>
                <a:latin typeface="YaHei Consolas Hybrid"/>
              </a:rPr>
              <a:t>X</a:t>
            </a: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上的</a:t>
            </a:r>
            <a:r>
              <a:rPr b="0" lang="en-US" sz="2400" spc="-1" strike="noStrike">
                <a:solidFill>
                  <a:srgbClr val="008000"/>
                </a:solidFill>
                <a:latin typeface="YaHei Consolas Hybrid"/>
              </a:rPr>
              <a:t>63</a:t>
            </a: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个盘子借助</a:t>
            </a:r>
            <a:r>
              <a:rPr b="0" lang="en-US" sz="2400" spc="-1" strike="noStrike">
                <a:solidFill>
                  <a:srgbClr val="008000"/>
                </a:solidFill>
                <a:latin typeface="YaHei Consolas Hybrid"/>
              </a:rPr>
              <a:t>Z</a:t>
            </a: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移到</a:t>
            </a:r>
            <a:r>
              <a:rPr b="0" lang="en-US" sz="2400" spc="-1" strike="noStrike">
                <a:solidFill>
                  <a:srgbClr val="008000"/>
                </a:solidFill>
                <a:latin typeface="YaHei Consolas Hybrid"/>
              </a:rPr>
              <a:t>Y</a:t>
            </a: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上”）拆解为：</a:t>
            </a:r>
            <a:endParaRPr b="0" lang="en-US" sz="24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将前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62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个盘子从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X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移动到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Z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上。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将最底下的第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63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个盘子移动到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Y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上。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将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Z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上的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62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个盘子移动到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Y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上。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问题二（“将</a:t>
            </a:r>
            <a:r>
              <a:rPr b="0" lang="en-US" sz="2400" spc="-1" strike="noStrike">
                <a:solidFill>
                  <a:srgbClr val="008000"/>
                </a:solidFill>
                <a:latin typeface="YaHei Consolas Hybrid"/>
              </a:rPr>
              <a:t>Y</a:t>
            </a: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上的</a:t>
            </a:r>
            <a:r>
              <a:rPr b="0" lang="en-US" sz="2400" spc="-1" strike="noStrike">
                <a:solidFill>
                  <a:srgbClr val="008000"/>
                </a:solidFill>
                <a:latin typeface="YaHei Consolas Hybrid"/>
              </a:rPr>
              <a:t>63</a:t>
            </a: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个盘子借助</a:t>
            </a:r>
            <a:r>
              <a:rPr b="0" lang="en-US" sz="2400" spc="-1" strike="noStrike">
                <a:solidFill>
                  <a:srgbClr val="008000"/>
                </a:solidFill>
                <a:latin typeface="YaHei Consolas Hybrid"/>
              </a:rPr>
              <a:t>X</a:t>
            </a: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移到</a:t>
            </a:r>
            <a:r>
              <a:rPr b="0" lang="en-US" sz="2400" spc="-1" strike="noStrike">
                <a:solidFill>
                  <a:srgbClr val="008000"/>
                </a:solidFill>
                <a:latin typeface="YaHei Consolas Hybrid"/>
              </a:rPr>
              <a:t>Z</a:t>
            </a: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上”）拆解为：</a:t>
            </a:r>
            <a:endParaRPr b="0" lang="en-US" sz="24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将前</a:t>
            </a:r>
            <a:r>
              <a:rPr b="0" lang="en-US" sz="2400" spc="-1" strike="noStrike">
                <a:solidFill>
                  <a:srgbClr val="008000"/>
                </a:solidFill>
                <a:latin typeface="YaHei Consolas Hybrid"/>
              </a:rPr>
              <a:t>62</a:t>
            </a: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个盘子从</a:t>
            </a:r>
            <a:r>
              <a:rPr b="0" lang="en-US" sz="2400" spc="-1" strike="noStrike">
                <a:solidFill>
                  <a:srgbClr val="008000"/>
                </a:solidFill>
                <a:latin typeface="YaHei Consolas Hybrid"/>
              </a:rPr>
              <a:t>Y</a:t>
            </a: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移动到</a:t>
            </a:r>
            <a:r>
              <a:rPr b="0" lang="en-US" sz="2400" spc="-1" strike="noStrike">
                <a:solidFill>
                  <a:srgbClr val="008000"/>
                </a:solidFill>
                <a:latin typeface="YaHei Consolas Hybrid"/>
              </a:rPr>
              <a:t>X</a:t>
            </a: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上。</a:t>
            </a:r>
            <a:endParaRPr b="0" lang="en-US" sz="24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将最底下的第</a:t>
            </a:r>
            <a:r>
              <a:rPr b="0" lang="en-US" sz="2400" spc="-1" strike="noStrike">
                <a:solidFill>
                  <a:srgbClr val="008000"/>
                </a:solidFill>
                <a:latin typeface="YaHei Consolas Hybrid"/>
              </a:rPr>
              <a:t>63</a:t>
            </a: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个盘子移动到</a:t>
            </a:r>
            <a:r>
              <a:rPr b="0" lang="en-US" sz="2400" spc="-1" strike="noStrike">
                <a:solidFill>
                  <a:srgbClr val="008000"/>
                </a:solidFill>
                <a:latin typeface="YaHei Consolas Hybrid"/>
              </a:rPr>
              <a:t>Z</a:t>
            </a: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上。</a:t>
            </a:r>
            <a:endParaRPr b="0" lang="en-US" sz="24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将</a:t>
            </a:r>
            <a:r>
              <a:rPr b="0" lang="en-US" sz="2400" spc="-1" strike="noStrike">
                <a:solidFill>
                  <a:srgbClr val="008000"/>
                </a:solidFill>
                <a:latin typeface="YaHei Consolas Hybrid"/>
              </a:rPr>
              <a:t>X</a:t>
            </a: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上的</a:t>
            </a:r>
            <a:r>
              <a:rPr b="0" lang="en-US" sz="2400" spc="-1" strike="noStrike">
                <a:solidFill>
                  <a:srgbClr val="008000"/>
                </a:solidFill>
                <a:latin typeface="YaHei Consolas Hybrid"/>
              </a:rPr>
              <a:t>62</a:t>
            </a: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个盘子移动到</a:t>
            </a:r>
            <a:r>
              <a:rPr b="0" lang="en-US" sz="2400" spc="-1" strike="noStrike">
                <a:solidFill>
                  <a:srgbClr val="008000"/>
                </a:solidFill>
                <a:latin typeface="YaHei Consolas Hybrid"/>
              </a:rPr>
              <a:t>Y</a:t>
            </a:r>
            <a:r>
              <a:rPr b="0" lang="zh-CN" sz="2400" spc="-1" strike="noStrike">
                <a:solidFill>
                  <a:srgbClr val="008000"/>
                </a:solidFill>
                <a:latin typeface="YaHei Consolas Hybrid"/>
              </a:rPr>
              <a:t>上。</a:t>
            </a:r>
            <a:endParaRPr b="0" lang="en-US" sz="24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李佳宇</cp:lastModifiedBy>
  <cp:lastPrinted>1899-12-30T00:00:00Z</cp:lastPrinted>
  <dcterms:modified xsi:type="dcterms:W3CDTF">2013-12-22T13:58:53Z</dcterms:modified>
  <cp:revision>2193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