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60" y="402840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560" y="40284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3600" y="40284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49000" y="16632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31440" y="16632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60" y="40284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49000" y="40284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31440" y="40284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66560" y="16632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3600" y="166320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691920"/>
            <a:ext cx="822960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6320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66560" y="40284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360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3600" y="40284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360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60" y="402840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504d"/>
                </a:solidFill>
                <a:latin typeface="华文行楷"/>
              </a:rPr>
              <a:t>Click to edit the title text format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6560" y="16632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Click to edit the outline text format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Second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2" marL="1143000" indent="-22860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Third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Fourth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Fifth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Sixth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Seventh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504d"/>
                </a:solidFill>
                <a:latin typeface="华文行楷"/>
              </a:rPr>
              <a:t>零基础入门学习</a:t>
            </a:r>
            <a:r>
              <a:rPr b="0" lang="en-US" sz="4000" spc="-1" strike="noStrike">
                <a:solidFill>
                  <a:srgbClr val="c0504d"/>
                </a:solidFill>
                <a:latin typeface="华文行楷"/>
              </a:rPr>
              <a:t>Python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466560" y="1781280"/>
            <a:ext cx="822960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作者：小甲鱼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8000"/>
                </a:solidFill>
                <a:latin typeface="YaHei Consolas Hybrid"/>
              </a:rPr>
              <a:t>让编程改变世界</a:t>
            </a:r>
            <a:endParaRPr b="0" lang="en-US" sz="36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Change</a:t>
            </a: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 the world by program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504d"/>
                </a:solidFill>
                <a:latin typeface="华文行楷"/>
              </a:rPr>
              <a:t>字典：当索引不好用时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pic>
        <p:nvPicPr>
          <p:cNvPr id="42" name="内容占位符 3" descr=""/>
          <p:cNvPicPr/>
          <p:nvPr/>
        </p:nvPicPr>
        <p:blipFill>
          <a:blip r:embed="rId1"/>
          <a:stretch/>
        </p:blipFill>
        <p:spPr>
          <a:xfrm>
            <a:off x="2376360" y="1773360"/>
            <a:ext cx="438948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504d"/>
                </a:solidFill>
                <a:latin typeface="华文行楷"/>
              </a:rPr>
              <a:t>映射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pic>
        <p:nvPicPr>
          <p:cNvPr id="44" name="Picture 2" descr="872087539215"/>
          <p:cNvPicPr/>
          <p:nvPr/>
        </p:nvPicPr>
        <p:blipFill>
          <a:blip r:embed="rId1"/>
          <a:stretch/>
        </p:blipFill>
        <p:spPr>
          <a:xfrm>
            <a:off x="2752560" y="209880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504d"/>
                </a:solidFill>
                <a:latin typeface="华文行楷"/>
              </a:rPr>
              <a:t>创建和访问字典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pic>
        <p:nvPicPr>
          <p:cNvPr id="46" name="内容占位符 3" descr=""/>
          <p:cNvPicPr/>
          <p:nvPr/>
        </p:nvPicPr>
        <p:blipFill>
          <a:blip r:embed="rId1"/>
          <a:stretch/>
        </p:blipFill>
        <p:spPr>
          <a:xfrm>
            <a:off x="2376360" y="1773360"/>
            <a:ext cx="438948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9T21:40:59Z</dcterms:created>
  <dc:creator>小甲鱼</dc:creator>
  <dc:description/>
  <dc:language>en-US</dc:language>
  <cp:lastModifiedBy>李佳宇</cp:lastModifiedBy>
  <cp:lastPrinted>1899-12-30T00:00:00Z</cp:lastPrinted>
  <dcterms:modified xsi:type="dcterms:W3CDTF">2014-01-02T11:29:54Z</dcterms:modified>
  <cp:revision>2196</cp:revision>
  <dc:subject/>
  <dc:title>Delphi 7中的运算符与表达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