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华文行楷"/>
              </a:rPr>
              <a:t>集合：在我的世界里，你就是唯一！</a:t>
            </a:r>
            <a:endParaRPr b="0" lang="en-US" sz="36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内容占位符 3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3287880" cy="31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如何创建一个集合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6560" y="21337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一种是直接把一堆元素用花括号括起来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一种是使用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t()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工厂函数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2152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课堂搞搞看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2302200" y="230040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时尚中黑简体"/>
                <a:ea typeface="时尚中黑简体"/>
              </a:rPr>
              <a:t>要求：去掉列表中重复的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693800" y="3451320"/>
            <a:ext cx="578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时尚中黑简体"/>
                <a:ea typeface="时尚中黑简体"/>
              </a:rPr>
              <a:t>[0, 1, 2, 3, 4, 5, 5, 3, 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如何访问集合中的值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可以使用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r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把集合中的数据一个个读取出来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可以通过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i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not i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判断一个元素是否在集合中已经存在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pic>
        <p:nvPicPr>
          <p:cNvPr id="51" name="内容占位符 3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2152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不可变集合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3" name="矩形 3" descr=""/>
          <p:cNvPicPr/>
          <p:nvPr/>
        </p:nvPicPr>
        <p:blipFill>
          <a:blip r:embed="rId1"/>
          <a:stretch/>
        </p:blipFill>
        <p:spPr>
          <a:xfrm>
            <a:off x="1432080" y="2517840"/>
            <a:ext cx="6297480" cy="768240"/>
          </a:xfrm>
          <a:prstGeom prst="rect">
            <a:avLst/>
          </a:prstGeom>
          <a:ln w="0">
            <a:noFill/>
          </a:ln>
        </p:spPr>
      </p:pic>
      <p:pic>
        <p:nvPicPr>
          <p:cNvPr id="54" name="内容占位符 3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2152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李佳宇</cp:lastModifiedBy>
  <cp:lastPrinted>1899-12-30T00:00:00Z</cp:lastPrinted>
  <dcterms:modified xsi:type="dcterms:W3CDTF">2014-03-13T12:24:21Z</dcterms:modified>
  <cp:revision>2205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