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华文行楷"/>
              </a:rPr>
              <a:t>因为懂你，所以永恒</a:t>
            </a:r>
            <a:endParaRPr b="0" lang="en-US" sz="36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图示 2" descr=""/>
          <p:cNvPicPr/>
          <p:nvPr/>
        </p:nvPicPr>
        <p:blipFill>
          <a:blip r:embed="rId1"/>
          <a:stretch/>
        </p:blipFill>
        <p:spPr>
          <a:xfrm>
            <a:off x="2066760" y="2120760"/>
            <a:ext cx="4967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因为懂你，所以永恒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pSp>
        <p:nvGrpSpPr>
          <p:cNvPr id="44" name="组合 8"/>
          <p:cNvGrpSpPr/>
          <p:nvPr/>
        </p:nvGrpSpPr>
        <p:grpSpPr>
          <a:xfrm>
            <a:off x="1258920" y="3314880"/>
            <a:ext cx="6842160" cy="1244520"/>
            <a:chOff x="1258920" y="3314880"/>
            <a:chExt cx="6842160" cy="1244520"/>
          </a:xfrm>
        </p:grpSpPr>
        <p:sp>
          <p:nvSpPr>
            <p:cNvPr id="45" name="流程图: 磁盘 4"/>
            <p:cNvSpPr/>
            <p:nvPr/>
          </p:nvSpPr>
          <p:spPr>
            <a:xfrm>
              <a:off x="6012360" y="3314880"/>
              <a:ext cx="2088720" cy="1244520"/>
            </a:xfrm>
            <a:prstGeom prst="flowChartMagneticDisk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流程图: 文档 5"/>
            <p:cNvSpPr/>
            <p:nvPr/>
          </p:nvSpPr>
          <p:spPr>
            <a:xfrm>
              <a:off x="1258920" y="3334320"/>
              <a:ext cx="1584360" cy="1225080"/>
            </a:xfrm>
            <a:prstGeom prst="flowChartDocumen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YaHei Consolas Hybrid"/>
                  <a:ea typeface="华文新魏"/>
                </a:rPr>
                <a:t>print(I love Fish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虚尾箭头 7"/>
            <p:cNvSpPr/>
            <p:nvPr/>
          </p:nvSpPr>
          <p:spPr>
            <a:xfrm>
              <a:off x="3203280" y="3622680"/>
              <a:ext cx="2448720" cy="648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YaHei Consolas Hybrid"/>
                  <a:ea typeface="华文新魏"/>
                </a:rPr>
                <a:t>Ctrl +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什么是文件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6503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打开文件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1773360"/>
          <a:ext cx="7417080" cy="4103640"/>
        </p:xfrm>
        <a:graphic>
          <a:graphicData uri="http://schemas.openxmlformats.org/drawingml/2006/table">
            <a:tbl>
              <a:tblPr/>
              <a:tblGrid>
                <a:gridCol w="1758960"/>
                <a:gridCol w="565812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 Light"/>
                          <a:ea typeface="微软雅黑 Light"/>
                        </a:rPr>
                        <a:t>打开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 Light"/>
                          <a:ea typeface="微软雅黑 Light"/>
                        </a:rPr>
                        <a:t>执行操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r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以只读方式打开文件（默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w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以写入的方式打开文件，会覆盖已存在的文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x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如果文件已经存在，使用此模式打开将引发异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以写入模式打开，如果文件存在，则在末尾追加写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b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以二进制模式打开文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t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以文本模式打开（默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+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可读写模式（可添加到其他模式中使用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'U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通用换行符支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文件对象方法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26920" y="1859040"/>
          <a:ext cx="7490160" cy="4017960"/>
        </p:xfrm>
        <a:graphic>
          <a:graphicData uri="http://schemas.openxmlformats.org/drawingml/2006/table">
            <a:tbl>
              <a:tblPr/>
              <a:tblGrid>
                <a:gridCol w="2000520"/>
                <a:gridCol w="5489640"/>
              </a:tblGrid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 Light"/>
                          <a:ea typeface="微软雅黑 Light"/>
                        </a:rPr>
                        <a:t>文件对象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 Light"/>
                          <a:ea typeface="微软雅黑 Light"/>
                        </a:rPr>
                        <a:t>执行操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clos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关闭文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read(size=-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从文件读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size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个字符，当未给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size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或给定负值的时候，读取剩余的所有字符，然后作为字符串返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readlin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以写入模式打开，如果文件存在，则在末尾追加写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write(st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将字符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st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写入文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writelines(se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向文件写入字符串序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seq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seq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应该是一个返回字符串的可迭代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seek(offset, fro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在文件中移动文件指针，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ro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代表文件起始位置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代表当前位置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代表文件末尾）偏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offse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个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f.tell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返回当前在文件中的位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4-03-25T15:39:43Z</dcterms:modified>
  <cp:revision>2227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